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A40-F522-4E9F-8DE8-685629B9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BB3-1AEB-4E5A-97AC-1A3D3DD2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977-17E7-4CE4-9A58-E569FC97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9FE-3178-4AD2-9C11-F7A44310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3A3-48BF-4D80-9EA3-4A06CF09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E84-35D3-4FD7-B57F-D0E85558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384-3378-454A-8831-7D8B8383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037-7CF5-40E5-BB65-54C98C72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6EF-F8F5-4734-9AF1-3EAC19FE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D81-8588-4D56-B86F-B93D479E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472-BC2A-432A-BE95-C71EC6F1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175-8BEF-4533-A418-76BC97CA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5556-897D-491E-AAC4-8F1C88D89A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Mr1TMyxArXk" TargetMode="External"/><Relationship Id="rId3" Type="http://schemas.openxmlformats.org/officeDocument/2006/relationships/hyperlink" Target="http://www.youtube.com/watch?v=aC1V9Eg9Cfw" TargetMode="External"/><Relationship Id="rId4" Type="http://schemas.openxmlformats.org/officeDocument/2006/relationships/hyperlink" Target="http://www.youtube.com/watch?v=slG0C3y27pU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j4JOjcDFtBE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Jokerman"/>
              </a:rPr>
              <a:t>Monday, June 1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ladimir Script"/>
              </a:rPr>
              <a:t>Moving right along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3809880" cy="276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5486400" y="3809880"/>
            <a:ext cx="3505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ladimir Script"/>
              </a:rPr>
              <a:t>Remember – take-home tests due today! No Excuses!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se functions are equ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16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(x) = (1/4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(x) = (16)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2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6634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8430"/>
                </a:moveTo>
                <a:lnTo>
                  <a:pt x="3497" y="18430"/>
                </a:ln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54240" y="3402000"/>
            <a:ext cx="71640" cy="250920"/>
          </a:xfrm>
          <a:custGeom>
            <a:avLst/>
            <a:gdLst/>
            <a:ahLst/>
            <a:rect l="l" t="t" r="r" b="b"/>
            <a:pathLst>
              <a:path w="200" h="695">
                <a:moveTo>
                  <a:pt x="8657" y="9451"/>
                </a:moveTo>
                <a:cubicBezTo>
                  <a:pt x="8688" y="9466"/>
                  <a:pt x="8651" y="9475"/>
                  <a:pt x="8632" y="9500"/>
                </a:cubicBezTo>
                <a:cubicBezTo>
                  <a:pt x="8603" y="9538"/>
                  <a:pt x="8560" y="9578"/>
                  <a:pt x="8533" y="9599"/>
                </a:cubicBezTo>
                <a:cubicBezTo>
                  <a:pt x="8497" y="9627"/>
                  <a:pt x="8487" y="9705"/>
                  <a:pt x="8483" y="9748"/>
                </a:cubicBezTo>
                <a:cubicBezTo>
                  <a:pt x="8477" y="9823"/>
                  <a:pt x="8502" y="9937"/>
                  <a:pt x="8508" y="9971"/>
                </a:cubicBezTo>
                <a:cubicBezTo>
                  <a:pt x="8516" y="10016"/>
                  <a:pt x="8514" y="10081"/>
                  <a:pt x="8558" y="10120"/>
                </a:cubicBezTo>
                <a:cubicBezTo>
                  <a:pt x="8579" y="10139"/>
                  <a:pt x="8624" y="10145"/>
                  <a:pt x="8657" y="101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510000" y="3357720"/>
            <a:ext cx="115920" cy="339480"/>
          </a:xfrm>
          <a:custGeom>
            <a:avLst/>
            <a:gdLst/>
            <a:ahLst/>
            <a:rect l="l" t="t" r="r" b="b"/>
            <a:pathLst>
              <a:path w="324" h="943">
                <a:moveTo>
                  <a:pt x="9748" y="9327"/>
                </a:moveTo>
                <a:cubicBezTo>
                  <a:pt x="9778" y="9379"/>
                  <a:pt x="9817" y="9425"/>
                  <a:pt x="9847" y="9475"/>
                </a:cubicBezTo>
                <a:cubicBezTo>
                  <a:pt x="9888" y="9543"/>
                  <a:pt x="9938" y="9630"/>
                  <a:pt x="9971" y="9699"/>
                </a:cubicBezTo>
                <a:cubicBezTo>
                  <a:pt x="10018" y="9798"/>
                  <a:pt x="10056" y="9887"/>
                  <a:pt x="10071" y="9996"/>
                </a:cubicBezTo>
                <a:cubicBezTo>
                  <a:pt x="10078" y="10044"/>
                  <a:pt x="10090" y="10157"/>
                  <a:pt x="10046" y="10195"/>
                </a:cubicBezTo>
                <a:cubicBezTo>
                  <a:pt x="10026" y="10212"/>
                  <a:pt x="9970" y="10264"/>
                  <a:pt x="9947" y="10269"/>
                </a:cubicBezTo>
                <a:cubicBezTo>
                  <a:pt x="9877" y="10285"/>
                  <a:pt x="9833" y="10279"/>
                  <a:pt x="9823" y="10220"/>
                </a:cubicBezTo>
                <a:cubicBezTo>
                  <a:pt x="9823" y="10261"/>
                  <a:pt x="9831" y="10277"/>
                  <a:pt x="9798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95800" y="4741920"/>
            <a:ext cx="71280" cy="258840"/>
          </a:xfrm>
          <a:custGeom>
            <a:avLst/>
            <a:gdLst/>
            <a:ahLst/>
            <a:rect l="l" t="t" r="r" b="b"/>
            <a:pathLst>
              <a:path w="199" h="721">
                <a:moveTo>
                  <a:pt x="9351" y="13171"/>
                </a:moveTo>
                <a:cubicBezTo>
                  <a:pt x="9316" y="13207"/>
                  <a:pt x="9275" y="13242"/>
                  <a:pt x="9252" y="13271"/>
                </a:cubicBezTo>
                <a:cubicBezTo>
                  <a:pt x="9220" y="13312"/>
                  <a:pt x="9197" y="13352"/>
                  <a:pt x="9178" y="13395"/>
                </a:cubicBezTo>
                <a:cubicBezTo>
                  <a:pt x="9157" y="13442"/>
                  <a:pt x="9137" y="13513"/>
                  <a:pt x="9153" y="13568"/>
                </a:cubicBezTo>
                <a:cubicBezTo>
                  <a:pt x="9172" y="13632"/>
                  <a:pt x="9204" y="13683"/>
                  <a:pt x="9227" y="13742"/>
                </a:cubicBezTo>
                <a:cubicBezTo>
                  <a:pt x="9237" y="13767"/>
                  <a:pt x="9257" y="13853"/>
                  <a:pt x="9277" y="13866"/>
                </a:cubicBezTo>
                <a:cubicBezTo>
                  <a:pt x="9302" y="13883"/>
                  <a:pt x="9297" y="13881"/>
                  <a:pt x="9327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16200" y="4697280"/>
            <a:ext cx="90720" cy="374760"/>
          </a:xfrm>
          <a:custGeom>
            <a:avLst/>
            <a:gdLst/>
            <a:ahLst/>
            <a:rect l="l" t="t" r="r" b="b"/>
            <a:pathLst>
              <a:path w="249" h="1043">
                <a:moveTo>
                  <a:pt x="10046" y="13047"/>
                </a:moveTo>
                <a:cubicBezTo>
                  <a:pt x="10100" y="13060"/>
                  <a:pt x="10095" y="13085"/>
                  <a:pt x="10120" y="13122"/>
                </a:cubicBezTo>
                <a:cubicBezTo>
                  <a:pt x="10157" y="13176"/>
                  <a:pt x="10196" y="13232"/>
                  <a:pt x="10220" y="13295"/>
                </a:cubicBezTo>
                <a:cubicBezTo>
                  <a:pt x="10254" y="13385"/>
                  <a:pt x="10246" y="13456"/>
                  <a:pt x="10269" y="13543"/>
                </a:cubicBezTo>
                <a:cubicBezTo>
                  <a:pt x="10292" y="13631"/>
                  <a:pt x="10269" y="13739"/>
                  <a:pt x="10269" y="13841"/>
                </a:cubicBezTo>
                <a:cubicBezTo>
                  <a:pt x="10269" y="13907"/>
                  <a:pt x="10237" y="13938"/>
                  <a:pt x="10220" y="13990"/>
                </a:cubicBezTo>
                <a:cubicBezTo>
                  <a:pt x="10212" y="14015"/>
                  <a:pt x="10216" y="14075"/>
                  <a:pt x="10195" y="14089"/>
                </a:cubicBezTo>
                <a:cubicBezTo>
                  <a:pt x="10187" y="14089"/>
                  <a:pt x="10178" y="14089"/>
                  <a:pt x="10170" y="140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19040" y="2187720"/>
            <a:ext cx="243000" cy="401400"/>
          </a:xfrm>
          <a:custGeom>
            <a:avLst/>
            <a:gdLst/>
            <a:ahLst/>
            <a:rect l="l" t="t" r="r" b="b"/>
            <a:pathLst>
              <a:path w="671" h="1117">
                <a:moveTo>
                  <a:pt x="1463" y="6772"/>
                </a:moveTo>
                <a:cubicBezTo>
                  <a:pt x="1431" y="6836"/>
                  <a:pt x="1445" y="6843"/>
                  <a:pt x="1389" y="6871"/>
                </a:cubicBezTo>
                <a:cubicBezTo>
                  <a:pt x="1381" y="6871"/>
                  <a:pt x="1372" y="6871"/>
                  <a:pt x="1364" y="6871"/>
                </a:cubicBezTo>
                <a:cubicBezTo>
                  <a:pt x="1405" y="6803"/>
                  <a:pt x="1370" y="6750"/>
                  <a:pt x="1389" y="6672"/>
                </a:cubicBezTo>
                <a:cubicBezTo>
                  <a:pt x="1411" y="6583"/>
                  <a:pt x="1437" y="6489"/>
                  <a:pt x="1463" y="6400"/>
                </a:cubicBezTo>
                <a:cubicBezTo>
                  <a:pt x="1488" y="6316"/>
                  <a:pt x="1525" y="6231"/>
                  <a:pt x="1563" y="6152"/>
                </a:cubicBezTo>
                <a:cubicBezTo>
                  <a:pt x="1563" y="6124"/>
                  <a:pt x="1565" y="6113"/>
                  <a:pt x="1588" y="6102"/>
                </a:cubicBezTo>
                <a:cubicBezTo>
                  <a:pt x="1639" y="6209"/>
                  <a:pt x="1657" y="6292"/>
                  <a:pt x="1687" y="6400"/>
                </a:cubicBezTo>
                <a:cubicBezTo>
                  <a:pt x="1703" y="6459"/>
                  <a:pt x="1725" y="6513"/>
                  <a:pt x="1736" y="6573"/>
                </a:cubicBezTo>
                <a:cubicBezTo>
                  <a:pt x="1736" y="6581"/>
                  <a:pt x="1736" y="6590"/>
                  <a:pt x="1736" y="6598"/>
                </a:cubicBezTo>
                <a:cubicBezTo>
                  <a:pt x="1649" y="6598"/>
                  <a:pt x="1572" y="6581"/>
                  <a:pt x="1488" y="6573"/>
                </a:cubicBezTo>
                <a:cubicBezTo>
                  <a:pt x="1398" y="6565"/>
                  <a:pt x="1274" y="6560"/>
                  <a:pt x="1191" y="6524"/>
                </a:cubicBezTo>
                <a:cubicBezTo>
                  <a:pt x="1166" y="6524"/>
                  <a:pt x="1158" y="6524"/>
                  <a:pt x="1166" y="6499"/>
                </a:cubicBezTo>
                <a:cubicBezTo>
                  <a:pt x="1233" y="6445"/>
                  <a:pt x="1307" y="6427"/>
                  <a:pt x="1389" y="6400"/>
                </a:cubicBezTo>
                <a:cubicBezTo>
                  <a:pt x="1486" y="6368"/>
                  <a:pt x="1606" y="6314"/>
                  <a:pt x="1687" y="6251"/>
                </a:cubicBezTo>
                <a:cubicBezTo>
                  <a:pt x="1755" y="6198"/>
                  <a:pt x="1771" y="6162"/>
                  <a:pt x="1811" y="6102"/>
                </a:cubicBezTo>
                <a:cubicBezTo>
                  <a:pt x="1819" y="6094"/>
                  <a:pt x="1828" y="6085"/>
                  <a:pt x="1836" y="6077"/>
                </a:cubicBezTo>
                <a:cubicBezTo>
                  <a:pt x="1830" y="6144"/>
                  <a:pt x="1831" y="6239"/>
                  <a:pt x="1811" y="6300"/>
                </a:cubicBezTo>
                <a:cubicBezTo>
                  <a:pt x="1749" y="6491"/>
                  <a:pt x="1593" y="6615"/>
                  <a:pt x="1488" y="6772"/>
                </a:cubicBezTo>
                <a:cubicBezTo>
                  <a:pt x="1429" y="6860"/>
                  <a:pt x="1365" y="6950"/>
                  <a:pt x="1315" y="7045"/>
                </a:cubicBezTo>
                <a:cubicBezTo>
                  <a:pt x="1284" y="7103"/>
                  <a:pt x="1262" y="7147"/>
                  <a:pt x="1215" y="71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11120" y="3537000"/>
            <a:ext cx="241200" cy="411120"/>
          </a:xfrm>
          <a:custGeom>
            <a:avLst/>
            <a:gdLst/>
            <a:ahLst/>
            <a:rect l="l" t="t" r="r" b="b"/>
            <a:pathLst>
              <a:path w="671" h="1142">
                <a:moveTo>
                  <a:pt x="1364" y="10443"/>
                </a:moveTo>
                <a:cubicBezTo>
                  <a:pt x="1310" y="10533"/>
                  <a:pt x="1326" y="10574"/>
                  <a:pt x="1265" y="10567"/>
                </a:cubicBezTo>
                <a:cubicBezTo>
                  <a:pt x="1294" y="10495"/>
                  <a:pt x="1314" y="10420"/>
                  <a:pt x="1339" y="10344"/>
                </a:cubicBezTo>
                <a:cubicBezTo>
                  <a:pt x="1377" y="10228"/>
                  <a:pt x="1388" y="10111"/>
                  <a:pt x="1414" y="9996"/>
                </a:cubicBezTo>
                <a:cubicBezTo>
                  <a:pt x="1425" y="9945"/>
                  <a:pt x="1480" y="9842"/>
                  <a:pt x="1488" y="9823"/>
                </a:cubicBezTo>
                <a:cubicBezTo>
                  <a:pt x="1505" y="9902"/>
                  <a:pt x="1513" y="9964"/>
                  <a:pt x="1513" y="10046"/>
                </a:cubicBezTo>
                <a:cubicBezTo>
                  <a:pt x="1513" y="10166"/>
                  <a:pt x="1552" y="10213"/>
                  <a:pt x="1612" y="10294"/>
                </a:cubicBezTo>
                <a:cubicBezTo>
                  <a:pt x="1636" y="10326"/>
                  <a:pt x="1646" y="10382"/>
                  <a:pt x="1662" y="10418"/>
                </a:cubicBezTo>
                <a:cubicBezTo>
                  <a:pt x="1540" y="10418"/>
                  <a:pt x="1511" y="10375"/>
                  <a:pt x="1414" y="10344"/>
                </a:cubicBezTo>
                <a:cubicBezTo>
                  <a:pt x="1328" y="10317"/>
                  <a:pt x="1236" y="10280"/>
                  <a:pt x="1141" y="10269"/>
                </a:cubicBezTo>
                <a:cubicBezTo>
                  <a:pt x="1201" y="10186"/>
                  <a:pt x="1293" y="10177"/>
                  <a:pt x="1389" y="10145"/>
                </a:cubicBezTo>
                <a:cubicBezTo>
                  <a:pt x="1497" y="10109"/>
                  <a:pt x="1625" y="10070"/>
                  <a:pt x="1736" y="10046"/>
                </a:cubicBezTo>
                <a:cubicBezTo>
                  <a:pt x="1778" y="10046"/>
                  <a:pt x="1786" y="10046"/>
                  <a:pt x="1811" y="10046"/>
                </a:cubicBezTo>
                <a:cubicBezTo>
                  <a:pt x="1761" y="10165"/>
                  <a:pt x="1702" y="10250"/>
                  <a:pt x="1612" y="10344"/>
                </a:cubicBezTo>
                <a:cubicBezTo>
                  <a:pt x="1495" y="10466"/>
                  <a:pt x="1464" y="10572"/>
                  <a:pt x="1389" y="10716"/>
                </a:cubicBezTo>
                <a:cubicBezTo>
                  <a:pt x="1351" y="10789"/>
                  <a:pt x="1338" y="10870"/>
                  <a:pt x="1290" y="10939"/>
                </a:cubicBezTo>
                <a:cubicBezTo>
                  <a:pt x="1282" y="10947"/>
                  <a:pt x="1273" y="10956"/>
                  <a:pt x="1265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47760" y="4884840"/>
            <a:ext cx="314280" cy="401400"/>
          </a:xfrm>
          <a:custGeom>
            <a:avLst/>
            <a:gdLst/>
            <a:ahLst/>
            <a:rect l="l" t="t" r="r" b="b"/>
            <a:pathLst>
              <a:path w="870" h="1117">
                <a:moveTo>
                  <a:pt x="1339" y="14089"/>
                </a:moveTo>
                <a:cubicBezTo>
                  <a:pt x="1316" y="14172"/>
                  <a:pt x="1298" y="14230"/>
                  <a:pt x="1290" y="14312"/>
                </a:cubicBezTo>
                <a:cubicBezTo>
                  <a:pt x="1311" y="14256"/>
                  <a:pt x="1341" y="14197"/>
                  <a:pt x="1364" y="14139"/>
                </a:cubicBezTo>
                <a:cubicBezTo>
                  <a:pt x="1405" y="14035"/>
                  <a:pt x="1438" y="13916"/>
                  <a:pt x="1488" y="13816"/>
                </a:cubicBezTo>
                <a:cubicBezTo>
                  <a:pt x="1508" y="13776"/>
                  <a:pt x="1571" y="13591"/>
                  <a:pt x="1612" y="13568"/>
                </a:cubicBezTo>
                <a:cubicBezTo>
                  <a:pt x="1637" y="13568"/>
                  <a:pt x="1645" y="13568"/>
                  <a:pt x="1662" y="13568"/>
                </a:cubicBezTo>
                <a:cubicBezTo>
                  <a:pt x="1702" y="13648"/>
                  <a:pt x="1726" y="13727"/>
                  <a:pt x="1736" y="13816"/>
                </a:cubicBezTo>
                <a:cubicBezTo>
                  <a:pt x="1747" y="13916"/>
                  <a:pt x="1767" y="13996"/>
                  <a:pt x="1811" y="14089"/>
                </a:cubicBezTo>
                <a:cubicBezTo>
                  <a:pt x="1831" y="14129"/>
                  <a:pt x="1840" y="14136"/>
                  <a:pt x="1836" y="14163"/>
                </a:cubicBezTo>
                <a:cubicBezTo>
                  <a:pt x="1745" y="14155"/>
                  <a:pt x="1719" y="14143"/>
                  <a:pt x="1637" y="14089"/>
                </a:cubicBezTo>
                <a:cubicBezTo>
                  <a:pt x="1531" y="14019"/>
                  <a:pt x="1442" y="13938"/>
                  <a:pt x="1339" y="13866"/>
                </a:cubicBezTo>
                <a:cubicBezTo>
                  <a:pt x="1271" y="13818"/>
                  <a:pt x="1230" y="13798"/>
                  <a:pt x="1191" y="13742"/>
                </a:cubicBezTo>
                <a:cubicBezTo>
                  <a:pt x="1307" y="13690"/>
                  <a:pt x="1389" y="13706"/>
                  <a:pt x="1513" y="13692"/>
                </a:cubicBezTo>
                <a:cubicBezTo>
                  <a:pt x="1628" y="13679"/>
                  <a:pt x="1723" y="13650"/>
                  <a:pt x="1836" y="13643"/>
                </a:cubicBezTo>
                <a:cubicBezTo>
                  <a:pt x="1754" y="13754"/>
                  <a:pt x="1658" y="13864"/>
                  <a:pt x="1563" y="13965"/>
                </a:cubicBezTo>
                <a:cubicBezTo>
                  <a:pt x="1385" y="14155"/>
                  <a:pt x="1199" y="14327"/>
                  <a:pt x="1042" y="14536"/>
                </a:cubicBezTo>
                <a:cubicBezTo>
                  <a:pt x="1000" y="14592"/>
                  <a:pt x="991" y="14628"/>
                  <a:pt x="967" y="146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322960" y="3000240"/>
            <a:ext cx="446040" cy="598680"/>
          </a:xfrm>
          <a:custGeom>
            <a:avLst/>
            <a:gdLst/>
            <a:ahLst/>
            <a:rect l="l" t="t" r="r" b="b"/>
            <a:pathLst>
              <a:path w="1241" h="1663">
                <a:moveTo>
                  <a:pt x="15304" y="9525"/>
                </a:moveTo>
                <a:cubicBezTo>
                  <a:pt x="15331" y="9661"/>
                  <a:pt x="15329" y="9547"/>
                  <a:pt x="15329" y="9475"/>
                </a:cubicBezTo>
                <a:cubicBezTo>
                  <a:pt x="15329" y="9392"/>
                  <a:pt x="15288" y="9308"/>
                  <a:pt x="15255" y="9227"/>
                </a:cubicBezTo>
                <a:cubicBezTo>
                  <a:pt x="15230" y="9167"/>
                  <a:pt x="15216" y="9153"/>
                  <a:pt x="15156" y="9153"/>
                </a:cubicBezTo>
                <a:cubicBezTo>
                  <a:pt x="15067" y="9153"/>
                  <a:pt x="14999" y="9301"/>
                  <a:pt x="14957" y="9376"/>
                </a:cubicBezTo>
                <a:cubicBezTo>
                  <a:pt x="14882" y="9510"/>
                  <a:pt x="14806" y="9670"/>
                  <a:pt x="14784" y="9823"/>
                </a:cubicBezTo>
                <a:cubicBezTo>
                  <a:pt x="14770" y="9921"/>
                  <a:pt x="14761" y="9982"/>
                  <a:pt x="14858" y="9996"/>
                </a:cubicBezTo>
                <a:cubicBezTo>
                  <a:pt x="14928" y="9996"/>
                  <a:pt x="14964" y="9953"/>
                  <a:pt x="15007" y="9897"/>
                </a:cubicBezTo>
                <a:cubicBezTo>
                  <a:pt x="15063" y="9823"/>
                  <a:pt x="15139" y="9691"/>
                  <a:pt x="15156" y="9599"/>
                </a:cubicBezTo>
                <a:cubicBezTo>
                  <a:pt x="15156" y="9574"/>
                  <a:pt x="15156" y="9550"/>
                  <a:pt x="15156" y="9525"/>
                </a:cubicBezTo>
                <a:cubicBezTo>
                  <a:pt x="15193" y="9589"/>
                  <a:pt x="15192" y="9676"/>
                  <a:pt x="15230" y="9748"/>
                </a:cubicBezTo>
                <a:cubicBezTo>
                  <a:pt x="15284" y="9852"/>
                  <a:pt x="15304" y="9971"/>
                  <a:pt x="15429" y="9971"/>
                </a:cubicBezTo>
                <a:cubicBezTo>
                  <a:pt x="15482" y="9903"/>
                  <a:pt x="15500" y="9857"/>
                  <a:pt x="15528" y="9773"/>
                </a:cubicBezTo>
              </a:path>
              <a:path w="1241" h="1663">
                <a:moveTo>
                  <a:pt x="15652" y="8632"/>
                </a:moveTo>
                <a:cubicBezTo>
                  <a:pt x="15684" y="8810"/>
                  <a:pt x="15722" y="8972"/>
                  <a:pt x="15726" y="9153"/>
                </a:cubicBezTo>
                <a:cubicBezTo>
                  <a:pt x="15730" y="9314"/>
                  <a:pt x="15716" y="9467"/>
                  <a:pt x="15701" y="9624"/>
                </a:cubicBezTo>
                <a:cubicBezTo>
                  <a:pt x="15696" y="9672"/>
                  <a:pt x="15701" y="9724"/>
                  <a:pt x="15701" y="9773"/>
                </a:cubicBezTo>
                <a:cubicBezTo>
                  <a:pt x="15676" y="9721"/>
                  <a:pt x="15668" y="9662"/>
                  <a:pt x="15652" y="9599"/>
                </a:cubicBezTo>
              </a:path>
              <a:path w="1241" h="1663">
                <a:moveTo>
                  <a:pt x="15875" y="8334"/>
                </a:moveTo>
                <a:cubicBezTo>
                  <a:pt x="15920" y="8527"/>
                  <a:pt x="15905" y="8685"/>
                  <a:pt x="15925" y="8880"/>
                </a:cubicBezTo>
                <a:cubicBezTo>
                  <a:pt x="15942" y="9045"/>
                  <a:pt x="15960" y="9215"/>
                  <a:pt x="15974" y="9376"/>
                </a:cubicBezTo>
                <a:cubicBezTo>
                  <a:pt x="15983" y="9483"/>
                  <a:pt x="16005" y="9570"/>
                  <a:pt x="16024" y="9674"/>
                </a:cubicBezTo>
                <a:cubicBezTo>
                  <a:pt x="16024" y="9707"/>
                  <a:pt x="16024" y="9723"/>
                  <a:pt x="16024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5938920" y="3062160"/>
            <a:ext cx="982440" cy="768600"/>
          </a:xfrm>
          <a:custGeom>
            <a:avLst/>
            <a:gdLst/>
            <a:ahLst/>
            <a:rect l="l" t="t" r="r" b="b"/>
            <a:pathLst>
              <a:path w="2730" h="2134">
                <a:moveTo>
                  <a:pt x="16520" y="9525"/>
                </a:moveTo>
                <a:cubicBezTo>
                  <a:pt x="16598" y="9513"/>
                  <a:pt x="16835" y="9499"/>
                  <a:pt x="16917" y="9451"/>
                </a:cubicBezTo>
                <a:cubicBezTo>
                  <a:pt x="16958" y="9427"/>
                  <a:pt x="17047" y="9349"/>
                  <a:pt x="17041" y="9302"/>
                </a:cubicBezTo>
                <a:cubicBezTo>
                  <a:pt x="17021" y="9261"/>
                  <a:pt x="17012" y="9255"/>
                  <a:pt x="17016" y="9227"/>
                </a:cubicBezTo>
                <a:cubicBezTo>
                  <a:pt x="16956" y="9227"/>
                  <a:pt x="16894" y="9214"/>
                  <a:pt x="16842" y="9252"/>
                </a:cubicBezTo>
                <a:cubicBezTo>
                  <a:pt x="16703" y="9355"/>
                  <a:pt x="16628" y="9460"/>
                  <a:pt x="16545" y="9599"/>
                </a:cubicBezTo>
                <a:cubicBezTo>
                  <a:pt x="16508" y="9662"/>
                  <a:pt x="16456" y="9767"/>
                  <a:pt x="16545" y="9823"/>
                </a:cubicBezTo>
                <a:cubicBezTo>
                  <a:pt x="16632" y="9877"/>
                  <a:pt x="16754" y="9843"/>
                  <a:pt x="16842" y="9823"/>
                </a:cubicBezTo>
              </a:path>
              <a:path w="2730" h="2134">
                <a:moveTo>
                  <a:pt x="17264" y="9302"/>
                </a:moveTo>
                <a:cubicBezTo>
                  <a:pt x="17147" y="9445"/>
                  <a:pt x="17028" y="9571"/>
                  <a:pt x="16966" y="9748"/>
                </a:cubicBezTo>
                <a:cubicBezTo>
                  <a:pt x="16966" y="9783"/>
                  <a:pt x="16971" y="9801"/>
                  <a:pt x="16991" y="9823"/>
                </a:cubicBezTo>
                <a:cubicBezTo>
                  <a:pt x="17092" y="9823"/>
                  <a:pt x="17052" y="9827"/>
                  <a:pt x="17115" y="9748"/>
                </a:cubicBezTo>
                <a:cubicBezTo>
                  <a:pt x="17165" y="9685"/>
                  <a:pt x="17246" y="9635"/>
                  <a:pt x="17264" y="9550"/>
                </a:cubicBezTo>
                <a:cubicBezTo>
                  <a:pt x="17279" y="9479"/>
                  <a:pt x="17282" y="9449"/>
                  <a:pt x="17289" y="9376"/>
                </a:cubicBezTo>
                <a:cubicBezTo>
                  <a:pt x="17289" y="9483"/>
                  <a:pt x="17258" y="9568"/>
                  <a:pt x="17239" y="9674"/>
                </a:cubicBezTo>
                <a:cubicBezTo>
                  <a:pt x="17187" y="9967"/>
                  <a:pt x="17147" y="10271"/>
                  <a:pt x="17190" y="10567"/>
                </a:cubicBezTo>
                <a:cubicBezTo>
                  <a:pt x="17195" y="10598"/>
                  <a:pt x="17223" y="10630"/>
                  <a:pt x="17239" y="10641"/>
                </a:cubicBezTo>
                <a:cubicBezTo>
                  <a:pt x="17239" y="10449"/>
                  <a:pt x="17236" y="10261"/>
                  <a:pt x="17264" y="10071"/>
                </a:cubicBezTo>
                <a:cubicBezTo>
                  <a:pt x="17272" y="10021"/>
                  <a:pt x="17281" y="9972"/>
                  <a:pt x="17289" y="9922"/>
                </a:cubicBezTo>
              </a:path>
              <a:path w="2730" h="2134">
                <a:moveTo>
                  <a:pt x="17487" y="9451"/>
                </a:moveTo>
                <a:cubicBezTo>
                  <a:pt x="17487" y="9542"/>
                  <a:pt x="17455" y="9738"/>
                  <a:pt x="17512" y="9823"/>
                </a:cubicBezTo>
                <a:cubicBezTo>
                  <a:pt x="17529" y="9848"/>
                  <a:pt x="17669" y="9843"/>
                  <a:pt x="17686" y="9823"/>
                </a:cubicBezTo>
                <a:cubicBezTo>
                  <a:pt x="17746" y="9749"/>
                  <a:pt x="17773" y="9708"/>
                  <a:pt x="17810" y="9599"/>
                </a:cubicBezTo>
                <a:cubicBezTo>
                  <a:pt x="17835" y="9525"/>
                  <a:pt x="17843" y="9501"/>
                  <a:pt x="17859" y="9451"/>
                </a:cubicBezTo>
                <a:cubicBezTo>
                  <a:pt x="17846" y="9530"/>
                  <a:pt x="17835" y="9592"/>
                  <a:pt x="17835" y="9674"/>
                </a:cubicBezTo>
                <a:cubicBezTo>
                  <a:pt x="17835" y="9765"/>
                  <a:pt x="17835" y="9830"/>
                  <a:pt x="17934" y="9847"/>
                </a:cubicBezTo>
                <a:cubicBezTo>
                  <a:pt x="17950" y="9847"/>
                  <a:pt x="17967" y="9847"/>
                  <a:pt x="17983" y="9847"/>
                </a:cubicBezTo>
              </a:path>
              <a:path w="2730" h="2134">
                <a:moveTo>
                  <a:pt x="18331" y="9475"/>
                </a:moveTo>
                <a:cubicBezTo>
                  <a:pt x="18360" y="9446"/>
                  <a:pt x="18365" y="9431"/>
                  <a:pt x="18331" y="9401"/>
                </a:cubicBezTo>
                <a:cubicBezTo>
                  <a:pt x="18282" y="9457"/>
                  <a:pt x="18211" y="9485"/>
                  <a:pt x="18157" y="9550"/>
                </a:cubicBezTo>
                <a:cubicBezTo>
                  <a:pt x="18126" y="9587"/>
                  <a:pt x="18037" y="9696"/>
                  <a:pt x="18107" y="9748"/>
                </a:cubicBezTo>
                <a:cubicBezTo>
                  <a:pt x="18194" y="9813"/>
                  <a:pt x="18289" y="9695"/>
                  <a:pt x="18331" y="9674"/>
                </a:cubicBezTo>
                <a:cubicBezTo>
                  <a:pt x="18364" y="9657"/>
                  <a:pt x="18434" y="9674"/>
                  <a:pt x="18455" y="9699"/>
                </a:cubicBezTo>
                <a:cubicBezTo>
                  <a:pt x="18495" y="9747"/>
                  <a:pt x="18515" y="9863"/>
                  <a:pt x="18604" y="9823"/>
                </a:cubicBezTo>
                <a:cubicBezTo>
                  <a:pt x="18699" y="9780"/>
                  <a:pt x="18736" y="9685"/>
                  <a:pt x="18777" y="9599"/>
                </a:cubicBezTo>
                <a:cubicBezTo>
                  <a:pt x="18843" y="9460"/>
                  <a:pt x="18889" y="9308"/>
                  <a:pt x="18901" y="9153"/>
                </a:cubicBezTo>
                <a:cubicBezTo>
                  <a:pt x="18912" y="9014"/>
                  <a:pt x="18901" y="8870"/>
                  <a:pt x="18901" y="8731"/>
                </a:cubicBezTo>
              </a:path>
              <a:path w="2730" h="2134">
                <a:moveTo>
                  <a:pt x="18852" y="8558"/>
                </a:moveTo>
                <a:cubicBezTo>
                  <a:pt x="18844" y="8541"/>
                  <a:pt x="18835" y="8525"/>
                  <a:pt x="18827" y="8508"/>
                </a:cubicBezTo>
                <a:cubicBezTo>
                  <a:pt x="18827" y="8701"/>
                  <a:pt x="18826" y="8887"/>
                  <a:pt x="18852" y="9079"/>
                </a:cubicBezTo>
                <a:cubicBezTo>
                  <a:pt x="18887" y="9340"/>
                  <a:pt x="18977" y="9572"/>
                  <a:pt x="19050" y="9823"/>
                </a:cubicBezTo>
                <a:cubicBezTo>
                  <a:pt x="19101" y="9998"/>
                  <a:pt x="19159" y="10175"/>
                  <a:pt x="19224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se functions are equ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(x) =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(x) = (1/9)(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044800"/>
            <a:ext cx="106200" cy="277560"/>
          </a:xfrm>
          <a:custGeom>
            <a:avLst/>
            <a:gdLst/>
            <a:ahLst/>
            <a:rect l="l" t="t" r="r" b="b"/>
            <a:pathLst>
              <a:path w="298" h="770">
                <a:moveTo>
                  <a:pt x="6796" y="5680"/>
                </a:moveTo>
                <a:cubicBezTo>
                  <a:pt x="6767" y="5690"/>
                  <a:pt x="6754" y="5723"/>
                  <a:pt x="6722" y="5755"/>
                </a:cubicBezTo>
                <a:cubicBezTo>
                  <a:pt x="6683" y="5793"/>
                  <a:pt x="6650" y="5834"/>
                  <a:pt x="6623" y="5879"/>
                </a:cubicBezTo>
                <a:cubicBezTo>
                  <a:pt x="6583" y="5946"/>
                  <a:pt x="6570" y="6009"/>
                  <a:pt x="6548" y="6077"/>
                </a:cubicBezTo>
                <a:cubicBezTo>
                  <a:pt x="6528" y="6139"/>
                  <a:pt x="6504" y="6163"/>
                  <a:pt x="6499" y="6226"/>
                </a:cubicBezTo>
                <a:cubicBezTo>
                  <a:pt x="6496" y="6262"/>
                  <a:pt x="6507" y="6299"/>
                  <a:pt x="6524" y="6325"/>
                </a:cubicBezTo>
                <a:cubicBezTo>
                  <a:pt x="6554" y="6372"/>
                  <a:pt x="6578" y="6384"/>
                  <a:pt x="6623" y="6424"/>
                </a:cubicBezTo>
                <a:cubicBezTo>
                  <a:pt x="6631" y="6432"/>
                  <a:pt x="6640" y="6441"/>
                  <a:pt x="6648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840040" y="2035080"/>
            <a:ext cx="88920" cy="358920"/>
          </a:xfrm>
          <a:custGeom>
            <a:avLst/>
            <a:gdLst/>
            <a:ahLst/>
            <a:rect l="l" t="t" r="r" b="b"/>
            <a:pathLst>
              <a:path w="249" h="994">
                <a:moveTo>
                  <a:pt x="7888" y="5655"/>
                </a:moveTo>
                <a:cubicBezTo>
                  <a:pt x="7927" y="5694"/>
                  <a:pt x="7981" y="5735"/>
                  <a:pt x="8012" y="5779"/>
                </a:cubicBezTo>
                <a:cubicBezTo>
                  <a:pt x="8065" y="5853"/>
                  <a:pt x="8082" y="5967"/>
                  <a:pt x="8111" y="6052"/>
                </a:cubicBezTo>
                <a:cubicBezTo>
                  <a:pt x="8142" y="6144"/>
                  <a:pt x="8136" y="6230"/>
                  <a:pt x="8136" y="6325"/>
                </a:cubicBezTo>
                <a:cubicBezTo>
                  <a:pt x="8136" y="6389"/>
                  <a:pt x="8113" y="6425"/>
                  <a:pt x="8086" y="6474"/>
                </a:cubicBezTo>
                <a:cubicBezTo>
                  <a:pt x="8075" y="6493"/>
                  <a:pt x="8025" y="6589"/>
                  <a:pt x="8012" y="6598"/>
                </a:cubicBezTo>
                <a:cubicBezTo>
                  <a:pt x="7988" y="6614"/>
                  <a:pt x="7965" y="6621"/>
                  <a:pt x="7938" y="66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3040" y="2178000"/>
            <a:ext cx="258840" cy="438120"/>
          </a:xfrm>
          <a:custGeom>
            <a:avLst/>
            <a:gdLst/>
            <a:ahLst/>
            <a:rect l="l" t="t" r="r" b="b"/>
            <a:pathLst>
              <a:path w="720" h="1217">
                <a:moveTo>
                  <a:pt x="1860" y="6276"/>
                </a:moveTo>
                <a:cubicBezTo>
                  <a:pt x="1827" y="6355"/>
                  <a:pt x="1786" y="6424"/>
                  <a:pt x="1736" y="6499"/>
                </a:cubicBezTo>
                <a:cubicBezTo>
                  <a:pt x="1667" y="6603"/>
                  <a:pt x="1577" y="6685"/>
                  <a:pt x="1488" y="6772"/>
                </a:cubicBezTo>
                <a:cubicBezTo>
                  <a:pt x="1460" y="6799"/>
                  <a:pt x="1441" y="6805"/>
                  <a:pt x="1414" y="6821"/>
                </a:cubicBezTo>
                <a:cubicBezTo>
                  <a:pt x="1420" y="6727"/>
                  <a:pt x="1427" y="6638"/>
                  <a:pt x="1463" y="6548"/>
                </a:cubicBezTo>
                <a:cubicBezTo>
                  <a:pt x="1510" y="6429"/>
                  <a:pt x="1560" y="6316"/>
                  <a:pt x="1612" y="6201"/>
                </a:cubicBezTo>
                <a:cubicBezTo>
                  <a:pt x="1635" y="6150"/>
                  <a:pt x="1632" y="6130"/>
                  <a:pt x="1637" y="6077"/>
                </a:cubicBezTo>
                <a:cubicBezTo>
                  <a:pt x="1685" y="6125"/>
                  <a:pt x="1688" y="6137"/>
                  <a:pt x="1712" y="6201"/>
                </a:cubicBezTo>
                <a:cubicBezTo>
                  <a:pt x="1746" y="6290"/>
                  <a:pt x="1758" y="6392"/>
                  <a:pt x="1811" y="6474"/>
                </a:cubicBezTo>
                <a:cubicBezTo>
                  <a:pt x="1822" y="6491"/>
                  <a:pt x="1931" y="6587"/>
                  <a:pt x="1860" y="6524"/>
                </a:cubicBezTo>
                <a:cubicBezTo>
                  <a:pt x="1820" y="6488"/>
                  <a:pt x="1751" y="6429"/>
                  <a:pt x="1687" y="6400"/>
                </a:cubicBezTo>
                <a:cubicBezTo>
                  <a:pt x="1624" y="6371"/>
                  <a:pt x="1551" y="6348"/>
                  <a:pt x="1488" y="6325"/>
                </a:cubicBezTo>
                <a:cubicBezTo>
                  <a:pt x="1568" y="6315"/>
                  <a:pt x="1656" y="6294"/>
                  <a:pt x="1736" y="6276"/>
                </a:cubicBezTo>
                <a:cubicBezTo>
                  <a:pt x="1820" y="6257"/>
                  <a:pt x="1903" y="6215"/>
                  <a:pt x="1984" y="6201"/>
                </a:cubicBezTo>
                <a:cubicBezTo>
                  <a:pt x="2001" y="6201"/>
                  <a:pt x="2017" y="6201"/>
                  <a:pt x="2034" y="6201"/>
                </a:cubicBezTo>
                <a:cubicBezTo>
                  <a:pt x="2027" y="6266"/>
                  <a:pt x="2020" y="6342"/>
                  <a:pt x="1984" y="6400"/>
                </a:cubicBezTo>
                <a:cubicBezTo>
                  <a:pt x="1877" y="6573"/>
                  <a:pt x="1727" y="6749"/>
                  <a:pt x="1588" y="6896"/>
                </a:cubicBezTo>
                <a:cubicBezTo>
                  <a:pt x="1472" y="7019"/>
                  <a:pt x="1375" y="7116"/>
                  <a:pt x="1315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3040" y="4848120"/>
            <a:ext cx="214200" cy="277920"/>
          </a:xfrm>
          <a:custGeom>
            <a:avLst/>
            <a:gdLst/>
            <a:ahLst/>
            <a:rect l="l" t="t" r="r" b="b"/>
            <a:pathLst>
              <a:path w="596" h="770">
                <a:moveTo>
                  <a:pt x="1315" y="14188"/>
                </a:moveTo>
                <a:cubicBezTo>
                  <a:pt x="1353" y="14175"/>
                  <a:pt x="1361" y="14140"/>
                  <a:pt x="1364" y="14089"/>
                </a:cubicBezTo>
                <a:cubicBezTo>
                  <a:pt x="1369" y="14010"/>
                  <a:pt x="1389" y="13950"/>
                  <a:pt x="1389" y="13866"/>
                </a:cubicBezTo>
                <a:cubicBezTo>
                  <a:pt x="1389" y="13772"/>
                  <a:pt x="1411" y="13679"/>
                  <a:pt x="1439" y="13593"/>
                </a:cubicBezTo>
                <a:cubicBezTo>
                  <a:pt x="1456" y="13541"/>
                  <a:pt x="1477" y="13514"/>
                  <a:pt x="1488" y="13469"/>
                </a:cubicBezTo>
                <a:cubicBezTo>
                  <a:pt x="1544" y="13469"/>
                  <a:pt x="1544" y="13481"/>
                  <a:pt x="1563" y="13543"/>
                </a:cubicBezTo>
                <a:cubicBezTo>
                  <a:pt x="1607" y="13690"/>
                  <a:pt x="1640" y="13863"/>
                  <a:pt x="1662" y="14015"/>
                </a:cubicBezTo>
                <a:cubicBezTo>
                  <a:pt x="1662" y="14073"/>
                  <a:pt x="1662" y="14081"/>
                  <a:pt x="1662" y="14114"/>
                </a:cubicBezTo>
                <a:cubicBezTo>
                  <a:pt x="1587" y="14114"/>
                  <a:pt x="1584" y="14091"/>
                  <a:pt x="1538" y="14039"/>
                </a:cubicBezTo>
                <a:cubicBezTo>
                  <a:pt x="1466" y="13958"/>
                  <a:pt x="1441" y="13861"/>
                  <a:pt x="1389" y="13767"/>
                </a:cubicBezTo>
                <a:cubicBezTo>
                  <a:pt x="1346" y="13690"/>
                  <a:pt x="1325" y="13676"/>
                  <a:pt x="1315" y="13593"/>
                </a:cubicBezTo>
                <a:cubicBezTo>
                  <a:pt x="1420" y="13512"/>
                  <a:pt x="1586" y="13566"/>
                  <a:pt x="1712" y="13593"/>
                </a:cubicBezTo>
                <a:cubicBezTo>
                  <a:pt x="1785" y="13609"/>
                  <a:pt x="1879" y="13606"/>
                  <a:pt x="1910" y="13667"/>
                </a:cubicBezTo>
                <a:cubicBezTo>
                  <a:pt x="1895" y="13802"/>
                  <a:pt x="1843" y="13814"/>
                  <a:pt x="1736" y="13891"/>
                </a:cubicBezTo>
                <a:cubicBezTo>
                  <a:pt x="1610" y="13982"/>
                  <a:pt x="1424" y="14051"/>
                  <a:pt x="1339" y="14188"/>
                </a:cubicBezTo>
                <a:cubicBezTo>
                  <a:pt x="1315" y="14227"/>
                  <a:pt x="1334" y="14233"/>
                  <a:pt x="1364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348080" y="2571840"/>
            <a:ext cx="2189160" cy="803160"/>
          </a:xfrm>
          <a:custGeom>
            <a:avLst/>
            <a:gdLst/>
            <a:ahLst/>
            <a:rect l="l" t="t" r="r" b="b"/>
            <a:pathLst>
              <a:path w="6078" h="2233">
                <a:moveTo>
                  <a:pt x="12824" y="8136"/>
                </a:moveTo>
                <a:cubicBezTo>
                  <a:pt x="12824" y="8435"/>
                  <a:pt x="12832" y="8736"/>
                  <a:pt x="12799" y="9029"/>
                </a:cubicBezTo>
                <a:cubicBezTo>
                  <a:pt x="12788" y="9125"/>
                  <a:pt x="12792" y="9208"/>
                  <a:pt x="12774" y="9302"/>
                </a:cubicBezTo>
                <a:cubicBezTo>
                  <a:pt x="12759" y="9379"/>
                  <a:pt x="12778" y="9421"/>
                  <a:pt x="12725" y="9302"/>
                </a:cubicBezTo>
              </a:path>
              <a:path w="6078" h="2233">
                <a:moveTo>
                  <a:pt x="12080" y="7888"/>
                </a:moveTo>
                <a:cubicBezTo>
                  <a:pt x="12207" y="7820"/>
                  <a:pt x="12281" y="7792"/>
                  <a:pt x="12427" y="7789"/>
                </a:cubicBezTo>
                <a:cubicBezTo>
                  <a:pt x="12580" y="7786"/>
                  <a:pt x="12779" y="7799"/>
                  <a:pt x="12923" y="7863"/>
                </a:cubicBezTo>
                <a:cubicBezTo>
                  <a:pt x="13019" y="7905"/>
                  <a:pt x="13132" y="7975"/>
                  <a:pt x="13196" y="8062"/>
                </a:cubicBezTo>
                <a:cubicBezTo>
                  <a:pt x="13247" y="8132"/>
                  <a:pt x="13220" y="8222"/>
                  <a:pt x="13171" y="8285"/>
                </a:cubicBezTo>
                <a:cubicBezTo>
                  <a:pt x="13110" y="8364"/>
                  <a:pt x="13000" y="8379"/>
                  <a:pt x="12923" y="8434"/>
                </a:cubicBezTo>
                <a:cubicBezTo>
                  <a:pt x="12867" y="8474"/>
                  <a:pt x="12765" y="8471"/>
                  <a:pt x="12725" y="8508"/>
                </a:cubicBezTo>
                <a:cubicBezTo>
                  <a:pt x="12701" y="8556"/>
                  <a:pt x="12693" y="8575"/>
                  <a:pt x="12700" y="8508"/>
                </a:cubicBezTo>
              </a:path>
              <a:path w="6078" h="2233">
                <a:moveTo>
                  <a:pt x="13271" y="8508"/>
                </a:moveTo>
                <a:lnTo>
                  <a:pt x="13271" y="8508"/>
                </a:lnTo>
                <a:lnTo>
                  <a:pt x="13271" y="8508"/>
                </a:lnTo>
              </a:path>
              <a:path w="6078" h="2233">
                <a:moveTo>
                  <a:pt x="13667" y="7640"/>
                </a:moveTo>
                <a:cubicBezTo>
                  <a:pt x="13695" y="7677"/>
                  <a:pt x="13681" y="7702"/>
                  <a:pt x="13717" y="7714"/>
                </a:cubicBezTo>
                <a:cubicBezTo>
                  <a:pt x="13727" y="7675"/>
                  <a:pt x="13755" y="7652"/>
                  <a:pt x="13767" y="7615"/>
                </a:cubicBezTo>
                <a:cubicBezTo>
                  <a:pt x="13778" y="7583"/>
                  <a:pt x="13803" y="7533"/>
                  <a:pt x="13841" y="7516"/>
                </a:cubicBezTo>
                <a:cubicBezTo>
                  <a:pt x="13905" y="7488"/>
                  <a:pt x="13893" y="7498"/>
                  <a:pt x="13965" y="7516"/>
                </a:cubicBezTo>
                <a:cubicBezTo>
                  <a:pt x="14026" y="7531"/>
                  <a:pt x="14036" y="7584"/>
                  <a:pt x="14064" y="7640"/>
                </a:cubicBezTo>
                <a:cubicBezTo>
                  <a:pt x="14117" y="7745"/>
                  <a:pt x="14114" y="7848"/>
                  <a:pt x="14114" y="7962"/>
                </a:cubicBezTo>
                <a:cubicBezTo>
                  <a:pt x="14114" y="8058"/>
                  <a:pt x="14084" y="8173"/>
                  <a:pt x="14039" y="8260"/>
                </a:cubicBezTo>
                <a:cubicBezTo>
                  <a:pt x="14002" y="8332"/>
                  <a:pt x="13932" y="8378"/>
                  <a:pt x="13866" y="8409"/>
                </a:cubicBezTo>
                <a:cubicBezTo>
                  <a:pt x="13830" y="8426"/>
                  <a:pt x="13739" y="8529"/>
                  <a:pt x="13692" y="8483"/>
                </a:cubicBezTo>
                <a:cubicBezTo>
                  <a:pt x="13661" y="8452"/>
                  <a:pt x="13609" y="8407"/>
                  <a:pt x="13593" y="8359"/>
                </a:cubicBezTo>
                <a:cubicBezTo>
                  <a:pt x="13579" y="8318"/>
                  <a:pt x="13602" y="8269"/>
                  <a:pt x="13618" y="8235"/>
                </a:cubicBezTo>
                <a:cubicBezTo>
                  <a:pt x="13646" y="8177"/>
                  <a:pt x="13666" y="8158"/>
                  <a:pt x="13717" y="8136"/>
                </a:cubicBezTo>
                <a:cubicBezTo>
                  <a:pt x="13793" y="8104"/>
                  <a:pt x="13812" y="8110"/>
                  <a:pt x="13866" y="8186"/>
                </a:cubicBezTo>
                <a:cubicBezTo>
                  <a:pt x="13900" y="8233"/>
                  <a:pt x="13924" y="8281"/>
                  <a:pt x="13940" y="8334"/>
                </a:cubicBezTo>
                <a:cubicBezTo>
                  <a:pt x="13962" y="8407"/>
                  <a:pt x="13965" y="8414"/>
                  <a:pt x="13965" y="8483"/>
                </a:cubicBezTo>
              </a:path>
              <a:path w="6078" h="2233">
                <a:moveTo>
                  <a:pt x="14312" y="7689"/>
                </a:moveTo>
                <a:cubicBezTo>
                  <a:pt x="14312" y="7638"/>
                  <a:pt x="14327" y="7636"/>
                  <a:pt x="14337" y="7615"/>
                </a:cubicBezTo>
                <a:cubicBezTo>
                  <a:pt x="14354" y="7582"/>
                  <a:pt x="14379" y="7514"/>
                  <a:pt x="14412" y="7491"/>
                </a:cubicBezTo>
                <a:cubicBezTo>
                  <a:pt x="14455" y="7460"/>
                  <a:pt x="14487" y="7466"/>
                  <a:pt x="14536" y="7466"/>
                </a:cubicBezTo>
                <a:cubicBezTo>
                  <a:pt x="14633" y="7466"/>
                  <a:pt x="14611" y="7518"/>
                  <a:pt x="14635" y="7590"/>
                </a:cubicBezTo>
                <a:cubicBezTo>
                  <a:pt x="14672" y="7701"/>
                  <a:pt x="14684" y="7768"/>
                  <a:pt x="14684" y="7888"/>
                </a:cubicBezTo>
                <a:cubicBezTo>
                  <a:pt x="14684" y="7994"/>
                  <a:pt x="14664" y="8109"/>
                  <a:pt x="14635" y="8210"/>
                </a:cubicBezTo>
                <a:cubicBezTo>
                  <a:pt x="14606" y="8310"/>
                  <a:pt x="14569" y="8417"/>
                  <a:pt x="14486" y="8483"/>
                </a:cubicBezTo>
                <a:cubicBezTo>
                  <a:pt x="14453" y="8509"/>
                  <a:pt x="14380" y="8508"/>
                  <a:pt x="14337" y="8508"/>
                </a:cubicBezTo>
                <a:cubicBezTo>
                  <a:pt x="14263" y="8508"/>
                  <a:pt x="14267" y="8414"/>
                  <a:pt x="14263" y="8359"/>
                </a:cubicBezTo>
                <a:cubicBezTo>
                  <a:pt x="14260" y="8319"/>
                  <a:pt x="14310" y="8265"/>
                  <a:pt x="14337" y="8235"/>
                </a:cubicBezTo>
                <a:cubicBezTo>
                  <a:pt x="14366" y="8202"/>
                  <a:pt x="14443" y="8196"/>
                  <a:pt x="14486" y="8210"/>
                </a:cubicBezTo>
                <a:cubicBezTo>
                  <a:pt x="14556" y="8233"/>
                  <a:pt x="14565" y="8285"/>
                  <a:pt x="14610" y="8334"/>
                </a:cubicBezTo>
                <a:cubicBezTo>
                  <a:pt x="14654" y="8383"/>
                  <a:pt x="14650" y="8431"/>
                  <a:pt x="14684" y="8483"/>
                </a:cubicBezTo>
                <a:cubicBezTo>
                  <a:pt x="14707" y="8518"/>
                  <a:pt x="14709" y="8611"/>
                  <a:pt x="14709" y="8508"/>
                </a:cubicBezTo>
              </a:path>
              <a:path w="6078" h="2233">
                <a:moveTo>
                  <a:pt x="14982" y="7516"/>
                </a:moveTo>
                <a:cubicBezTo>
                  <a:pt x="15062" y="7497"/>
                  <a:pt x="15154" y="7511"/>
                  <a:pt x="15230" y="7491"/>
                </a:cubicBezTo>
                <a:cubicBezTo>
                  <a:pt x="15301" y="7472"/>
                  <a:pt x="15352" y="7466"/>
                  <a:pt x="15429" y="7466"/>
                </a:cubicBezTo>
                <a:cubicBezTo>
                  <a:pt x="15485" y="7466"/>
                  <a:pt x="15490" y="7481"/>
                  <a:pt x="15503" y="7441"/>
                </a:cubicBezTo>
              </a:path>
              <a:path w="6078" h="2233">
                <a:moveTo>
                  <a:pt x="14982" y="7466"/>
                </a:moveTo>
                <a:cubicBezTo>
                  <a:pt x="14898" y="7576"/>
                  <a:pt x="14843" y="7629"/>
                  <a:pt x="14833" y="7764"/>
                </a:cubicBezTo>
                <a:cubicBezTo>
                  <a:pt x="14830" y="7801"/>
                  <a:pt x="14817" y="7867"/>
                  <a:pt x="14858" y="7888"/>
                </a:cubicBezTo>
                <a:cubicBezTo>
                  <a:pt x="14885" y="7901"/>
                  <a:pt x="14941" y="7874"/>
                  <a:pt x="14957" y="7863"/>
                </a:cubicBezTo>
                <a:cubicBezTo>
                  <a:pt x="15001" y="7833"/>
                  <a:pt x="15023" y="7838"/>
                  <a:pt x="15081" y="7838"/>
                </a:cubicBezTo>
                <a:cubicBezTo>
                  <a:pt x="15156" y="7838"/>
                  <a:pt x="15211" y="7876"/>
                  <a:pt x="15255" y="7938"/>
                </a:cubicBezTo>
                <a:cubicBezTo>
                  <a:pt x="15286" y="7982"/>
                  <a:pt x="15356" y="8111"/>
                  <a:pt x="15354" y="8161"/>
                </a:cubicBezTo>
                <a:cubicBezTo>
                  <a:pt x="15351" y="8224"/>
                  <a:pt x="15323" y="8312"/>
                  <a:pt x="15280" y="8359"/>
                </a:cubicBezTo>
                <a:cubicBezTo>
                  <a:pt x="15213" y="8431"/>
                  <a:pt x="15149" y="8474"/>
                  <a:pt x="15056" y="8483"/>
                </a:cubicBezTo>
                <a:cubicBezTo>
                  <a:pt x="14982" y="8490"/>
                  <a:pt x="14862" y="8512"/>
                  <a:pt x="14833" y="8434"/>
                </a:cubicBezTo>
                <a:cubicBezTo>
                  <a:pt x="14833" y="8426"/>
                  <a:pt x="14833" y="8417"/>
                  <a:pt x="14833" y="8409"/>
                </a:cubicBezTo>
              </a:path>
              <a:path w="6078" h="2233">
                <a:moveTo>
                  <a:pt x="15801" y="7417"/>
                </a:moveTo>
                <a:cubicBezTo>
                  <a:pt x="15792" y="7548"/>
                  <a:pt x="15750" y="7615"/>
                  <a:pt x="15701" y="7739"/>
                </a:cubicBezTo>
                <a:cubicBezTo>
                  <a:pt x="15654" y="7857"/>
                  <a:pt x="15616" y="7985"/>
                  <a:pt x="15602" y="8111"/>
                </a:cubicBezTo>
                <a:cubicBezTo>
                  <a:pt x="15593" y="8196"/>
                  <a:pt x="15618" y="8342"/>
                  <a:pt x="15677" y="8409"/>
                </a:cubicBezTo>
                <a:cubicBezTo>
                  <a:pt x="15685" y="8418"/>
                  <a:pt x="15791" y="8481"/>
                  <a:pt x="15801" y="8483"/>
                </a:cubicBezTo>
                <a:cubicBezTo>
                  <a:pt x="15809" y="8483"/>
                  <a:pt x="15817" y="8483"/>
                  <a:pt x="15825" y="8483"/>
                </a:cubicBezTo>
              </a:path>
              <a:path w="6078" h="2233">
                <a:moveTo>
                  <a:pt x="16197" y="7466"/>
                </a:moveTo>
                <a:cubicBezTo>
                  <a:pt x="16197" y="7780"/>
                  <a:pt x="16197" y="8095"/>
                  <a:pt x="16197" y="8409"/>
                </a:cubicBezTo>
              </a:path>
              <a:path w="6078" h="2233">
                <a:moveTo>
                  <a:pt x="16446" y="8062"/>
                </a:moveTo>
                <a:cubicBezTo>
                  <a:pt x="16516" y="8043"/>
                  <a:pt x="16600" y="8021"/>
                  <a:pt x="16669" y="8012"/>
                </a:cubicBezTo>
                <a:cubicBezTo>
                  <a:pt x="16694" y="8012"/>
                  <a:pt x="16718" y="8012"/>
                  <a:pt x="16743" y="8012"/>
                </a:cubicBezTo>
              </a:path>
              <a:path w="6078" h="2233">
                <a:moveTo>
                  <a:pt x="17066" y="7491"/>
                </a:moveTo>
                <a:cubicBezTo>
                  <a:pt x="17074" y="7483"/>
                  <a:pt x="17082" y="7474"/>
                  <a:pt x="17090" y="7466"/>
                </a:cubicBezTo>
                <a:cubicBezTo>
                  <a:pt x="17090" y="7531"/>
                  <a:pt x="17076" y="7580"/>
                  <a:pt x="17066" y="7640"/>
                </a:cubicBezTo>
                <a:cubicBezTo>
                  <a:pt x="17032" y="7850"/>
                  <a:pt x="17063" y="8105"/>
                  <a:pt x="17090" y="8310"/>
                </a:cubicBezTo>
                <a:cubicBezTo>
                  <a:pt x="17099" y="8377"/>
                  <a:pt x="17129" y="8450"/>
                  <a:pt x="17140" y="8508"/>
                </a:cubicBezTo>
                <a:cubicBezTo>
                  <a:pt x="17161" y="8620"/>
                  <a:pt x="17161" y="8444"/>
                  <a:pt x="17165" y="8409"/>
                </a:cubicBezTo>
              </a:path>
              <a:path w="6078" h="2233">
                <a:moveTo>
                  <a:pt x="17438" y="7590"/>
                </a:moveTo>
                <a:cubicBezTo>
                  <a:pt x="17575" y="7566"/>
                  <a:pt x="17581" y="7551"/>
                  <a:pt x="17686" y="7615"/>
                </a:cubicBezTo>
                <a:cubicBezTo>
                  <a:pt x="17753" y="7656"/>
                  <a:pt x="17772" y="7713"/>
                  <a:pt x="17785" y="7789"/>
                </a:cubicBezTo>
                <a:cubicBezTo>
                  <a:pt x="17795" y="7850"/>
                  <a:pt x="17720" y="7941"/>
                  <a:pt x="17686" y="7987"/>
                </a:cubicBezTo>
                <a:cubicBezTo>
                  <a:pt x="17652" y="8032"/>
                  <a:pt x="17602" y="8050"/>
                  <a:pt x="17562" y="8086"/>
                </a:cubicBezTo>
                <a:cubicBezTo>
                  <a:pt x="17554" y="8094"/>
                  <a:pt x="17545" y="8103"/>
                  <a:pt x="17537" y="8111"/>
                </a:cubicBezTo>
                <a:cubicBezTo>
                  <a:pt x="17564" y="8102"/>
                  <a:pt x="17600" y="8103"/>
                  <a:pt x="17636" y="8086"/>
                </a:cubicBezTo>
                <a:cubicBezTo>
                  <a:pt x="17682" y="8064"/>
                  <a:pt x="17702" y="8062"/>
                  <a:pt x="17760" y="8062"/>
                </a:cubicBezTo>
                <a:cubicBezTo>
                  <a:pt x="17815" y="8062"/>
                  <a:pt x="17853" y="8088"/>
                  <a:pt x="17884" y="8136"/>
                </a:cubicBezTo>
                <a:cubicBezTo>
                  <a:pt x="17917" y="8187"/>
                  <a:pt x="17958" y="8271"/>
                  <a:pt x="17934" y="8334"/>
                </a:cubicBezTo>
                <a:cubicBezTo>
                  <a:pt x="17918" y="8375"/>
                  <a:pt x="17863" y="8446"/>
                  <a:pt x="17835" y="8483"/>
                </a:cubicBezTo>
                <a:cubicBezTo>
                  <a:pt x="17809" y="8518"/>
                  <a:pt x="17725" y="8553"/>
                  <a:pt x="17686" y="8558"/>
                </a:cubicBezTo>
                <a:cubicBezTo>
                  <a:pt x="17620" y="8566"/>
                  <a:pt x="17573" y="8484"/>
                  <a:pt x="17537" y="8434"/>
                </a:cubicBezTo>
              </a:path>
              <a:path w="6078" h="2233">
                <a:moveTo>
                  <a:pt x="17735" y="7144"/>
                </a:moveTo>
                <a:cubicBezTo>
                  <a:pt x="17856" y="7218"/>
                  <a:pt x="17932" y="7311"/>
                  <a:pt x="18008" y="7441"/>
                </a:cubicBezTo>
                <a:cubicBezTo>
                  <a:pt x="18072" y="7550"/>
                  <a:pt x="18137" y="7714"/>
                  <a:pt x="18157" y="7838"/>
                </a:cubicBezTo>
                <a:cubicBezTo>
                  <a:pt x="18174" y="7942"/>
                  <a:pt x="18162" y="8062"/>
                  <a:pt x="18132" y="8161"/>
                </a:cubicBezTo>
                <a:cubicBezTo>
                  <a:pt x="18101" y="8263"/>
                  <a:pt x="18022" y="8326"/>
                  <a:pt x="17959" y="8409"/>
                </a:cubicBezTo>
                <a:cubicBezTo>
                  <a:pt x="17903" y="8483"/>
                  <a:pt x="17853" y="8527"/>
                  <a:pt x="17785" y="8558"/>
                </a:cubicBezTo>
                <a:cubicBezTo>
                  <a:pt x="17768" y="8566"/>
                  <a:pt x="17752" y="8574"/>
                  <a:pt x="17735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769000" y="3214800"/>
            <a:ext cx="704880" cy="465120"/>
          </a:xfrm>
          <a:custGeom>
            <a:avLst/>
            <a:gdLst/>
            <a:ahLst/>
            <a:rect l="l" t="t" r="r" b="b"/>
            <a:pathLst>
              <a:path w="1960" h="1291">
                <a:moveTo>
                  <a:pt x="16197" y="9500"/>
                </a:moveTo>
                <a:cubicBezTo>
                  <a:pt x="16161" y="9579"/>
                  <a:pt x="16120" y="9662"/>
                  <a:pt x="16098" y="9748"/>
                </a:cubicBezTo>
                <a:cubicBezTo>
                  <a:pt x="16083" y="9809"/>
                  <a:pt x="16067" y="9910"/>
                  <a:pt x="16098" y="9971"/>
                </a:cubicBezTo>
                <a:cubicBezTo>
                  <a:pt x="16122" y="10019"/>
                  <a:pt x="16149" y="10046"/>
                  <a:pt x="16222" y="10046"/>
                </a:cubicBezTo>
                <a:cubicBezTo>
                  <a:pt x="16345" y="10046"/>
                  <a:pt x="16423" y="10067"/>
                  <a:pt x="16520" y="9971"/>
                </a:cubicBezTo>
                <a:cubicBezTo>
                  <a:pt x="16577" y="9914"/>
                  <a:pt x="16570" y="9848"/>
                  <a:pt x="16570" y="9773"/>
                </a:cubicBezTo>
                <a:cubicBezTo>
                  <a:pt x="16570" y="9701"/>
                  <a:pt x="16540" y="9612"/>
                  <a:pt x="16495" y="9550"/>
                </a:cubicBezTo>
                <a:cubicBezTo>
                  <a:pt x="16439" y="9473"/>
                  <a:pt x="16396" y="9448"/>
                  <a:pt x="16321" y="9401"/>
                </a:cubicBezTo>
                <a:cubicBezTo>
                  <a:pt x="16270" y="9369"/>
                  <a:pt x="16173" y="9370"/>
                  <a:pt x="16123" y="9401"/>
                </a:cubicBezTo>
                <a:cubicBezTo>
                  <a:pt x="16049" y="9446"/>
                  <a:pt x="16039" y="9521"/>
                  <a:pt x="16024" y="9599"/>
                </a:cubicBezTo>
                <a:cubicBezTo>
                  <a:pt x="16017" y="9635"/>
                  <a:pt x="16051" y="9794"/>
                  <a:pt x="16073" y="9823"/>
                </a:cubicBezTo>
                <a:cubicBezTo>
                  <a:pt x="16129" y="9897"/>
                  <a:pt x="16266" y="9949"/>
                  <a:pt x="16346" y="9971"/>
                </a:cubicBezTo>
              </a:path>
              <a:path w="1960" h="1291">
                <a:moveTo>
                  <a:pt x="16942" y="9451"/>
                </a:moveTo>
                <a:cubicBezTo>
                  <a:pt x="16887" y="9389"/>
                  <a:pt x="16861" y="9352"/>
                  <a:pt x="16768" y="9376"/>
                </a:cubicBezTo>
                <a:cubicBezTo>
                  <a:pt x="16716" y="9390"/>
                  <a:pt x="16630" y="9460"/>
                  <a:pt x="16594" y="9500"/>
                </a:cubicBezTo>
                <a:cubicBezTo>
                  <a:pt x="16543" y="9558"/>
                  <a:pt x="16548" y="9629"/>
                  <a:pt x="16545" y="9699"/>
                </a:cubicBezTo>
                <a:cubicBezTo>
                  <a:pt x="16542" y="9779"/>
                  <a:pt x="16580" y="9832"/>
                  <a:pt x="16619" y="9897"/>
                </a:cubicBezTo>
                <a:cubicBezTo>
                  <a:pt x="16663" y="9970"/>
                  <a:pt x="16661" y="9955"/>
                  <a:pt x="16743" y="9971"/>
                </a:cubicBezTo>
                <a:cubicBezTo>
                  <a:pt x="16799" y="9922"/>
                  <a:pt x="16853" y="9894"/>
                  <a:pt x="16867" y="9823"/>
                </a:cubicBezTo>
                <a:cubicBezTo>
                  <a:pt x="16885" y="9732"/>
                  <a:pt x="16892" y="9645"/>
                  <a:pt x="16892" y="9550"/>
                </a:cubicBezTo>
                <a:cubicBezTo>
                  <a:pt x="16892" y="9438"/>
                  <a:pt x="16871" y="9337"/>
                  <a:pt x="16867" y="9227"/>
                </a:cubicBezTo>
                <a:cubicBezTo>
                  <a:pt x="16865" y="9158"/>
                  <a:pt x="16858" y="9071"/>
                  <a:pt x="16842" y="9004"/>
                </a:cubicBezTo>
                <a:cubicBezTo>
                  <a:pt x="16828" y="8948"/>
                  <a:pt x="16836" y="8964"/>
                  <a:pt x="16842" y="9004"/>
                </a:cubicBezTo>
                <a:cubicBezTo>
                  <a:pt x="16854" y="9080"/>
                  <a:pt x="16861" y="9178"/>
                  <a:pt x="16867" y="9252"/>
                </a:cubicBezTo>
                <a:cubicBezTo>
                  <a:pt x="16877" y="9370"/>
                  <a:pt x="16866" y="9484"/>
                  <a:pt x="16892" y="9599"/>
                </a:cubicBezTo>
                <a:cubicBezTo>
                  <a:pt x="16911" y="9682"/>
                  <a:pt x="16961" y="9835"/>
                  <a:pt x="17016" y="9897"/>
                </a:cubicBezTo>
                <a:cubicBezTo>
                  <a:pt x="17057" y="9944"/>
                  <a:pt x="17230" y="10053"/>
                  <a:pt x="17289" y="10046"/>
                </a:cubicBezTo>
                <a:cubicBezTo>
                  <a:pt x="17305" y="10044"/>
                  <a:pt x="17448" y="9941"/>
                  <a:pt x="17462" y="9922"/>
                </a:cubicBezTo>
                <a:cubicBezTo>
                  <a:pt x="17516" y="9846"/>
                  <a:pt x="17533" y="9768"/>
                  <a:pt x="17537" y="9674"/>
                </a:cubicBezTo>
                <a:cubicBezTo>
                  <a:pt x="17540" y="9611"/>
                  <a:pt x="17534" y="9522"/>
                  <a:pt x="17487" y="9475"/>
                </a:cubicBezTo>
                <a:cubicBezTo>
                  <a:pt x="17442" y="9430"/>
                  <a:pt x="17401" y="9392"/>
                  <a:pt x="17338" y="9376"/>
                </a:cubicBezTo>
                <a:cubicBezTo>
                  <a:pt x="17246" y="9353"/>
                  <a:pt x="17216" y="9394"/>
                  <a:pt x="17165" y="9451"/>
                </a:cubicBezTo>
                <a:cubicBezTo>
                  <a:pt x="17114" y="9508"/>
                  <a:pt x="17119" y="9502"/>
                  <a:pt x="17115" y="9599"/>
                </a:cubicBezTo>
                <a:cubicBezTo>
                  <a:pt x="17112" y="9671"/>
                  <a:pt x="17126" y="9714"/>
                  <a:pt x="17165" y="9773"/>
                </a:cubicBezTo>
                <a:cubicBezTo>
                  <a:pt x="17205" y="9833"/>
                  <a:pt x="17272" y="9890"/>
                  <a:pt x="17338" y="9897"/>
                </a:cubicBezTo>
                <a:cubicBezTo>
                  <a:pt x="17415" y="9906"/>
                  <a:pt x="17462" y="9840"/>
                  <a:pt x="17487" y="9773"/>
                </a:cubicBezTo>
                <a:cubicBezTo>
                  <a:pt x="17517" y="9694"/>
                  <a:pt x="17512" y="9609"/>
                  <a:pt x="17512" y="9525"/>
                </a:cubicBezTo>
                <a:cubicBezTo>
                  <a:pt x="17512" y="9412"/>
                  <a:pt x="17478" y="9335"/>
                  <a:pt x="17462" y="9227"/>
                </a:cubicBezTo>
                <a:cubicBezTo>
                  <a:pt x="17448" y="9134"/>
                  <a:pt x="17422" y="9066"/>
                  <a:pt x="17388" y="9004"/>
                </a:cubicBezTo>
                <a:cubicBezTo>
                  <a:pt x="17356" y="8946"/>
                  <a:pt x="17360" y="8957"/>
                  <a:pt x="17338" y="8930"/>
                </a:cubicBezTo>
                <a:cubicBezTo>
                  <a:pt x="17313" y="9005"/>
                  <a:pt x="17292" y="8991"/>
                  <a:pt x="17289" y="9079"/>
                </a:cubicBezTo>
                <a:cubicBezTo>
                  <a:pt x="17284" y="9202"/>
                  <a:pt x="17297" y="9271"/>
                  <a:pt x="17363" y="9376"/>
                </a:cubicBezTo>
                <a:cubicBezTo>
                  <a:pt x="17450" y="9514"/>
                  <a:pt x="17535" y="9644"/>
                  <a:pt x="17636" y="9773"/>
                </a:cubicBezTo>
                <a:cubicBezTo>
                  <a:pt x="17760" y="9931"/>
                  <a:pt x="17848" y="10067"/>
                  <a:pt x="17983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5ffff"/>
                </a:solidFill>
                <a:latin typeface="Showcard Gothic"/>
              </a:rPr>
              <a:t>Chapter Three Lesson 3.1</a:t>
            </a:r>
            <a:br>
              <a:rPr sz="8000"/>
            </a:br>
            <a:r>
              <a:rPr b="0" i="1" lang="en-US" sz="4000" spc="-1" strike="noStrike">
                <a:solidFill>
                  <a:srgbClr val="e5ffff"/>
                </a:solidFill>
                <a:latin typeface="Showcard Gothic"/>
              </a:rPr>
              <a:t>Exponents and Logarith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191120" y="4038480"/>
            <a:ext cx="2031840" cy="2705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3048120" y="5473800"/>
            <a:ext cx="1181160" cy="127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youtube.com/watch?v=Mr1TMyxArXk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youtube.com/watch?v=aC1V9Eg9Cf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www.youtube.com/watch?v=slG0C3y27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youtube.com/watch?v=j4JOjcDFtB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914400"/>
            <a:ext cx="8153280" cy="13737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(x)=13.49(0.967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1  is the function that explains how many o-rings are expected to fail as the temperature changes (fall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609480" y="3429000"/>
            <a:ext cx="7772400" cy="2531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onential functions – variable in the exponent – are used in looking at population growth, epidemics, radioactive decay, credit card payments, investment interest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2"/>
          <a:srcRect l="0" t="45290" r="37506" b="0"/>
          <a:stretch/>
        </p:blipFill>
        <p:spPr>
          <a:xfrm>
            <a:off x="457200" y="533520"/>
            <a:ext cx="8381880" cy="366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65880" y="4572000"/>
            <a:ext cx="927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launch time, the temperature at the Kennedy Space Center was 36 degre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ahrenheit. This was 15 degrees colder than any previous Space Shuttle launc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of Challenger's pre-launch preparations were routine, with the exception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emendous ice buildup on the launch pad that formed as temperatures dipped int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ow 20's overnigh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se a calculator to comput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3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√1464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231920" y="4894200"/>
            <a:ext cx="2073240" cy="561960"/>
          </a:xfrm>
          <a:custGeom>
            <a:avLst/>
            <a:gdLst/>
            <a:ahLst/>
            <a:rect l="l" t="t" r="r" b="b"/>
            <a:pathLst>
              <a:path w="5756" h="1564">
                <a:moveTo>
                  <a:pt x="3423" y="13667"/>
                </a:moveTo>
                <a:cubicBezTo>
                  <a:pt x="3423" y="13643"/>
                  <a:pt x="3423" y="13634"/>
                  <a:pt x="3423" y="13618"/>
                </a:cubicBezTo>
                <a:cubicBezTo>
                  <a:pt x="3480" y="13618"/>
                  <a:pt x="3528" y="13637"/>
                  <a:pt x="3572" y="13643"/>
                </a:cubicBezTo>
                <a:cubicBezTo>
                  <a:pt x="3661" y="13654"/>
                  <a:pt x="3758" y="13659"/>
                  <a:pt x="3845" y="13667"/>
                </a:cubicBezTo>
                <a:cubicBezTo>
                  <a:pt x="4081" y="13688"/>
                  <a:pt x="4334" y="13668"/>
                  <a:pt x="4564" y="13643"/>
                </a:cubicBezTo>
                <a:cubicBezTo>
                  <a:pt x="4678" y="13631"/>
                  <a:pt x="4796" y="13622"/>
                  <a:pt x="4911" y="13618"/>
                </a:cubicBezTo>
                <a:cubicBezTo>
                  <a:pt x="5039" y="13614"/>
                  <a:pt x="5158" y="13605"/>
                  <a:pt x="5283" y="13593"/>
                </a:cubicBezTo>
                <a:cubicBezTo>
                  <a:pt x="5552" y="13567"/>
                  <a:pt x="5839" y="13594"/>
                  <a:pt x="6102" y="13618"/>
                </a:cubicBezTo>
                <a:cubicBezTo>
                  <a:pt x="6228" y="13630"/>
                  <a:pt x="6349" y="13627"/>
                  <a:pt x="6474" y="13643"/>
                </a:cubicBezTo>
                <a:cubicBezTo>
                  <a:pt x="6530" y="13650"/>
                  <a:pt x="6591" y="13643"/>
                  <a:pt x="6648" y="13643"/>
                </a:cubicBezTo>
              </a:path>
              <a:path w="5756" h="1564">
                <a:moveTo>
                  <a:pt x="8657" y="13990"/>
                </a:moveTo>
                <a:cubicBezTo>
                  <a:pt x="8657" y="14098"/>
                  <a:pt x="8650" y="14207"/>
                  <a:pt x="8632" y="14312"/>
                </a:cubicBezTo>
                <a:cubicBezTo>
                  <a:pt x="8610" y="14438"/>
                  <a:pt x="8586" y="14556"/>
                  <a:pt x="8582" y="14684"/>
                </a:cubicBezTo>
                <a:cubicBezTo>
                  <a:pt x="8580" y="14751"/>
                  <a:pt x="8582" y="14998"/>
                  <a:pt x="8582" y="14982"/>
                </a:cubicBezTo>
              </a:path>
              <a:path w="5756" h="1564">
                <a:moveTo>
                  <a:pt x="9079" y="13965"/>
                </a:moveTo>
                <a:cubicBezTo>
                  <a:pt x="9060" y="14080"/>
                  <a:pt x="9031" y="14196"/>
                  <a:pt x="9029" y="14312"/>
                </a:cubicBezTo>
                <a:cubicBezTo>
                  <a:pt x="9026" y="14487"/>
                  <a:pt x="9044" y="14662"/>
                  <a:pt x="9079" y="14833"/>
                </a:cubicBezTo>
                <a:cubicBezTo>
                  <a:pt x="9103" y="14950"/>
                  <a:pt x="9133" y="15047"/>
                  <a:pt x="9178" y="151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2125800" y="1490760"/>
            <a:ext cx="1009440" cy="322200"/>
          </a:xfrm>
          <a:custGeom>
            <a:avLst/>
            <a:gdLst/>
            <a:ahLst/>
            <a:rect l="l" t="t" r="r" b="b"/>
            <a:pathLst>
              <a:path w="2803" h="894">
                <a:moveTo>
                  <a:pt x="6400" y="4341"/>
                </a:moveTo>
                <a:cubicBezTo>
                  <a:pt x="6400" y="4281"/>
                  <a:pt x="6391" y="4292"/>
                  <a:pt x="6350" y="4266"/>
                </a:cubicBezTo>
                <a:cubicBezTo>
                  <a:pt x="6295" y="4231"/>
                  <a:pt x="6246" y="4242"/>
                  <a:pt x="6176" y="4242"/>
                </a:cubicBezTo>
                <a:cubicBezTo>
                  <a:pt x="6117" y="4242"/>
                  <a:pt x="6029" y="4259"/>
                  <a:pt x="5978" y="4291"/>
                </a:cubicBezTo>
                <a:cubicBezTo>
                  <a:pt x="5942" y="4313"/>
                  <a:pt x="5909" y="4320"/>
                  <a:pt x="5904" y="4366"/>
                </a:cubicBezTo>
                <a:cubicBezTo>
                  <a:pt x="5897" y="4433"/>
                  <a:pt x="5922" y="4458"/>
                  <a:pt x="5978" y="4490"/>
                </a:cubicBezTo>
                <a:cubicBezTo>
                  <a:pt x="6047" y="4530"/>
                  <a:pt x="6148" y="4603"/>
                  <a:pt x="6201" y="4663"/>
                </a:cubicBezTo>
                <a:cubicBezTo>
                  <a:pt x="6247" y="4714"/>
                  <a:pt x="6304" y="4793"/>
                  <a:pt x="6325" y="4862"/>
                </a:cubicBezTo>
                <a:cubicBezTo>
                  <a:pt x="6336" y="4899"/>
                  <a:pt x="6285" y="4971"/>
                  <a:pt x="6251" y="4986"/>
                </a:cubicBezTo>
                <a:cubicBezTo>
                  <a:pt x="6214" y="5002"/>
                  <a:pt x="6170" y="5011"/>
                  <a:pt x="6127" y="5011"/>
                </a:cubicBezTo>
                <a:cubicBezTo>
                  <a:pt x="6075" y="5011"/>
                  <a:pt x="6058" y="4991"/>
                  <a:pt x="6052" y="4936"/>
                </a:cubicBezTo>
                <a:cubicBezTo>
                  <a:pt x="6045" y="4875"/>
                  <a:pt x="6063" y="4811"/>
                  <a:pt x="6102" y="4762"/>
                </a:cubicBezTo>
                <a:cubicBezTo>
                  <a:pt x="6170" y="4676"/>
                  <a:pt x="6236" y="4585"/>
                  <a:pt x="6300" y="4490"/>
                </a:cubicBezTo>
                <a:cubicBezTo>
                  <a:pt x="6323" y="4456"/>
                  <a:pt x="6384" y="4402"/>
                  <a:pt x="6400" y="4366"/>
                </a:cubicBezTo>
                <a:cubicBezTo>
                  <a:pt x="6400" y="4338"/>
                  <a:pt x="6402" y="4327"/>
                  <a:pt x="6424" y="4316"/>
                </a:cubicBezTo>
              </a:path>
              <a:path w="2803" h="894">
                <a:moveTo>
                  <a:pt x="6623" y="4911"/>
                </a:moveTo>
                <a:cubicBezTo>
                  <a:pt x="6631" y="4895"/>
                  <a:pt x="6640" y="4878"/>
                  <a:pt x="6648" y="4862"/>
                </a:cubicBezTo>
              </a:path>
              <a:path w="2803" h="894">
                <a:moveTo>
                  <a:pt x="7119" y="4192"/>
                </a:moveTo>
                <a:cubicBezTo>
                  <a:pt x="7196" y="4192"/>
                  <a:pt x="7266" y="4171"/>
                  <a:pt x="7342" y="4167"/>
                </a:cubicBezTo>
                <a:cubicBezTo>
                  <a:pt x="7411" y="4164"/>
                  <a:pt x="7459" y="4159"/>
                  <a:pt x="7516" y="4142"/>
                </a:cubicBezTo>
                <a:cubicBezTo>
                  <a:pt x="7524" y="4142"/>
                  <a:pt x="7533" y="4142"/>
                  <a:pt x="7541" y="4142"/>
                </a:cubicBezTo>
              </a:path>
              <a:path w="2803" h="894">
                <a:moveTo>
                  <a:pt x="7069" y="4217"/>
                </a:moveTo>
                <a:cubicBezTo>
                  <a:pt x="7030" y="4308"/>
                  <a:pt x="6995" y="4351"/>
                  <a:pt x="6995" y="4440"/>
                </a:cubicBezTo>
                <a:cubicBezTo>
                  <a:pt x="6995" y="4476"/>
                  <a:pt x="7017" y="4511"/>
                  <a:pt x="7045" y="4514"/>
                </a:cubicBezTo>
                <a:cubicBezTo>
                  <a:pt x="7085" y="4519"/>
                  <a:pt x="7098" y="4506"/>
                  <a:pt x="7119" y="4490"/>
                </a:cubicBezTo>
                <a:cubicBezTo>
                  <a:pt x="7138" y="4476"/>
                  <a:pt x="7193" y="4429"/>
                  <a:pt x="7218" y="4440"/>
                </a:cubicBezTo>
                <a:cubicBezTo>
                  <a:pt x="7249" y="4454"/>
                  <a:pt x="7296" y="4481"/>
                  <a:pt x="7317" y="4514"/>
                </a:cubicBezTo>
                <a:cubicBezTo>
                  <a:pt x="7363" y="4586"/>
                  <a:pt x="7412" y="4679"/>
                  <a:pt x="7417" y="4762"/>
                </a:cubicBezTo>
                <a:cubicBezTo>
                  <a:pt x="7421" y="4836"/>
                  <a:pt x="7412" y="4877"/>
                  <a:pt x="7367" y="4936"/>
                </a:cubicBezTo>
                <a:cubicBezTo>
                  <a:pt x="7327" y="4989"/>
                  <a:pt x="7254" y="5008"/>
                  <a:pt x="7193" y="5011"/>
                </a:cubicBezTo>
                <a:cubicBezTo>
                  <a:pt x="7140" y="5014"/>
                  <a:pt x="7001" y="5035"/>
                  <a:pt x="6970" y="4986"/>
                </a:cubicBezTo>
                <a:cubicBezTo>
                  <a:pt x="6952" y="4957"/>
                  <a:pt x="6982" y="4929"/>
                  <a:pt x="6995" y="4911"/>
                </a:cubicBezTo>
              </a:path>
              <a:path w="2803" h="894">
                <a:moveTo>
                  <a:pt x="7665" y="4291"/>
                </a:moveTo>
                <a:cubicBezTo>
                  <a:pt x="7747" y="4273"/>
                  <a:pt x="7834" y="4255"/>
                  <a:pt x="7913" y="4242"/>
                </a:cubicBezTo>
                <a:cubicBezTo>
                  <a:pt x="7977" y="4232"/>
                  <a:pt x="8031" y="4234"/>
                  <a:pt x="8086" y="4217"/>
                </a:cubicBezTo>
                <a:cubicBezTo>
                  <a:pt x="8111" y="4217"/>
                  <a:pt x="8119" y="4217"/>
                  <a:pt x="8136" y="4217"/>
                </a:cubicBezTo>
                <a:cubicBezTo>
                  <a:pt x="8081" y="4271"/>
                  <a:pt x="8031" y="4339"/>
                  <a:pt x="8012" y="4415"/>
                </a:cubicBezTo>
                <a:cubicBezTo>
                  <a:pt x="7991" y="4499"/>
                  <a:pt x="7969" y="4579"/>
                  <a:pt x="7938" y="4663"/>
                </a:cubicBezTo>
                <a:cubicBezTo>
                  <a:pt x="7911" y="4736"/>
                  <a:pt x="7886" y="4813"/>
                  <a:pt x="7863" y="4887"/>
                </a:cubicBezTo>
                <a:cubicBezTo>
                  <a:pt x="7850" y="4928"/>
                  <a:pt x="7880" y="5019"/>
                  <a:pt x="7838" y="5011"/>
                </a:cubicBezTo>
                <a:cubicBezTo>
                  <a:pt x="7813" y="4986"/>
                  <a:pt x="7805" y="4978"/>
                  <a:pt x="7838" y="4961"/>
                </a:cubicBezTo>
              </a:path>
              <a:path w="2803" h="894">
                <a:moveTo>
                  <a:pt x="8384" y="4440"/>
                </a:moveTo>
                <a:cubicBezTo>
                  <a:pt x="8384" y="4512"/>
                  <a:pt x="8375" y="4531"/>
                  <a:pt x="8334" y="4589"/>
                </a:cubicBezTo>
                <a:cubicBezTo>
                  <a:pt x="8303" y="4633"/>
                  <a:pt x="8272" y="4701"/>
                  <a:pt x="8235" y="4713"/>
                </a:cubicBezTo>
                <a:cubicBezTo>
                  <a:pt x="8273" y="4726"/>
                  <a:pt x="8256" y="4738"/>
                  <a:pt x="8310" y="4738"/>
                </a:cubicBezTo>
                <a:cubicBezTo>
                  <a:pt x="8348" y="4738"/>
                  <a:pt x="8419" y="4725"/>
                  <a:pt x="8458" y="4713"/>
                </a:cubicBezTo>
                <a:cubicBezTo>
                  <a:pt x="8514" y="4696"/>
                  <a:pt x="8542" y="4679"/>
                  <a:pt x="8582" y="4638"/>
                </a:cubicBezTo>
              </a:path>
              <a:path w="2803" h="894">
                <a:moveTo>
                  <a:pt x="8706" y="4316"/>
                </a:moveTo>
                <a:cubicBezTo>
                  <a:pt x="8672" y="4364"/>
                  <a:pt x="8675" y="4410"/>
                  <a:pt x="8657" y="4465"/>
                </a:cubicBezTo>
                <a:cubicBezTo>
                  <a:pt x="8632" y="4540"/>
                  <a:pt x="8574" y="4610"/>
                  <a:pt x="8558" y="4688"/>
                </a:cubicBezTo>
                <a:cubicBezTo>
                  <a:pt x="8543" y="4761"/>
                  <a:pt x="8506" y="4793"/>
                  <a:pt x="8483" y="4862"/>
                </a:cubicBezTo>
                <a:cubicBezTo>
                  <a:pt x="8473" y="4892"/>
                  <a:pt x="8451" y="4936"/>
                  <a:pt x="8434" y="4961"/>
                </a:cubicBezTo>
                <a:cubicBezTo>
                  <a:pt x="8411" y="4984"/>
                  <a:pt x="8407" y="4992"/>
                  <a:pt x="8384" y="4986"/>
                </a:cubicBezTo>
                <a:cubicBezTo>
                  <a:pt x="8373" y="5018"/>
                  <a:pt x="8366" y="5025"/>
                  <a:pt x="8334" y="50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982880" y="2874960"/>
            <a:ext cx="27000" cy="54000"/>
          </a:xfrm>
          <a:custGeom>
            <a:avLst/>
            <a:gdLst/>
            <a:ahLst/>
            <a:rect l="l" t="t" r="r" b="b"/>
            <a:pathLst>
              <a:path w="75" h="150">
                <a:moveTo>
                  <a:pt x="5531" y="7987"/>
                </a:moveTo>
                <a:cubicBezTo>
                  <a:pt x="5531" y="8037"/>
                  <a:pt x="5531" y="8086"/>
                  <a:pt x="5531" y="8136"/>
                </a:cubicBezTo>
                <a:cubicBezTo>
                  <a:pt x="5558" y="8127"/>
                  <a:pt x="5577" y="8118"/>
                  <a:pt x="5581" y="8086"/>
                </a:cubicBezTo>
                <a:cubicBezTo>
                  <a:pt x="5585" y="8054"/>
                  <a:pt x="5560" y="8071"/>
                  <a:pt x="5531" y="8086"/>
                </a:cubicBezTo>
                <a:cubicBezTo>
                  <a:pt x="5510" y="8096"/>
                  <a:pt x="5480" y="8121"/>
                  <a:pt x="5531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2170080" y="2616120"/>
            <a:ext cx="135000" cy="331920"/>
          </a:xfrm>
          <a:custGeom>
            <a:avLst/>
            <a:gdLst/>
            <a:ahLst/>
            <a:rect l="l" t="t" r="r" b="b"/>
            <a:pathLst>
              <a:path w="373" h="919">
                <a:moveTo>
                  <a:pt x="6127" y="7268"/>
                </a:moveTo>
                <a:cubicBezTo>
                  <a:pt x="6127" y="7379"/>
                  <a:pt x="6112" y="7483"/>
                  <a:pt x="6102" y="7590"/>
                </a:cubicBezTo>
                <a:cubicBezTo>
                  <a:pt x="6090" y="7716"/>
                  <a:pt x="6071" y="7843"/>
                  <a:pt x="6052" y="7962"/>
                </a:cubicBezTo>
                <a:cubicBezTo>
                  <a:pt x="6043" y="8017"/>
                  <a:pt x="6076" y="8094"/>
                  <a:pt x="6028" y="8111"/>
                </a:cubicBezTo>
                <a:cubicBezTo>
                  <a:pt x="6038" y="8068"/>
                  <a:pt x="6057" y="8033"/>
                  <a:pt x="6077" y="7987"/>
                </a:cubicBezTo>
              </a:path>
              <a:path w="373" h="919">
                <a:moveTo>
                  <a:pt x="6400" y="7317"/>
                </a:moveTo>
                <a:cubicBezTo>
                  <a:pt x="6400" y="7402"/>
                  <a:pt x="6394" y="7484"/>
                  <a:pt x="6375" y="7565"/>
                </a:cubicBezTo>
                <a:cubicBezTo>
                  <a:pt x="6345" y="7694"/>
                  <a:pt x="6317" y="7828"/>
                  <a:pt x="6300" y="7962"/>
                </a:cubicBezTo>
                <a:cubicBezTo>
                  <a:pt x="6295" y="8006"/>
                  <a:pt x="6300" y="8199"/>
                  <a:pt x="6300" y="8161"/>
                </a:cubicBezTo>
                <a:cubicBezTo>
                  <a:pt x="6300" y="8128"/>
                  <a:pt x="6300" y="8111"/>
                  <a:pt x="6300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2394000" y="2652840"/>
            <a:ext cx="160200" cy="303120"/>
          </a:xfrm>
          <a:custGeom>
            <a:avLst/>
            <a:gdLst/>
            <a:ahLst/>
            <a:rect l="l" t="t" r="r" b="b"/>
            <a:pathLst>
              <a:path w="447" h="844">
                <a:moveTo>
                  <a:pt x="6747" y="7367"/>
                </a:moveTo>
                <a:cubicBezTo>
                  <a:pt x="6767" y="7438"/>
                  <a:pt x="6750" y="7462"/>
                  <a:pt x="6722" y="7541"/>
                </a:cubicBezTo>
                <a:cubicBezTo>
                  <a:pt x="6688" y="7639"/>
                  <a:pt x="6693" y="7739"/>
                  <a:pt x="6672" y="7838"/>
                </a:cubicBezTo>
                <a:cubicBezTo>
                  <a:pt x="6652" y="7928"/>
                  <a:pt x="6643" y="7998"/>
                  <a:pt x="6672" y="8086"/>
                </a:cubicBezTo>
                <a:cubicBezTo>
                  <a:pt x="6695" y="8156"/>
                  <a:pt x="6732" y="8198"/>
                  <a:pt x="6796" y="8210"/>
                </a:cubicBezTo>
                <a:cubicBezTo>
                  <a:pt x="6838" y="8218"/>
                  <a:pt x="6941" y="8167"/>
                  <a:pt x="6970" y="8136"/>
                </a:cubicBezTo>
                <a:cubicBezTo>
                  <a:pt x="7029" y="8072"/>
                  <a:pt x="7042" y="8042"/>
                  <a:pt x="7069" y="7962"/>
                </a:cubicBezTo>
                <a:cubicBezTo>
                  <a:pt x="7092" y="7895"/>
                  <a:pt x="7112" y="7855"/>
                  <a:pt x="7069" y="7789"/>
                </a:cubicBezTo>
                <a:cubicBezTo>
                  <a:pt x="7061" y="7781"/>
                  <a:pt x="7053" y="7772"/>
                  <a:pt x="7045" y="7764"/>
                </a:cubicBezTo>
                <a:cubicBezTo>
                  <a:pt x="7005" y="7774"/>
                  <a:pt x="6947" y="7831"/>
                  <a:pt x="6921" y="7863"/>
                </a:cubicBezTo>
                <a:cubicBezTo>
                  <a:pt x="6878" y="7917"/>
                  <a:pt x="6851" y="7996"/>
                  <a:pt x="6846" y="8062"/>
                </a:cubicBezTo>
                <a:cubicBezTo>
                  <a:pt x="6842" y="8109"/>
                  <a:pt x="6865" y="8146"/>
                  <a:pt x="6871" y="8161"/>
                </a:cubicBezTo>
                <a:cubicBezTo>
                  <a:pt x="6885" y="8195"/>
                  <a:pt x="6876" y="8186"/>
                  <a:pt x="6921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652840" y="2625840"/>
            <a:ext cx="196560" cy="401400"/>
          </a:xfrm>
          <a:custGeom>
            <a:avLst/>
            <a:gdLst/>
            <a:ahLst/>
            <a:rect l="l" t="t" r="r" b="b"/>
            <a:pathLst>
              <a:path w="547" h="1117">
                <a:moveTo>
                  <a:pt x="7466" y="7293"/>
                </a:moveTo>
                <a:cubicBezTo>
                  <a:pt x="7466" y="7368"/>
                  <a:pt x="7432" y="7396"/>
                  <a:pt x="7417" y="7466"/>
                </a:cubicBezTo>
                <a:cubicBezTo>
                  <a:pt x="7398" y="7556"/>
                  <a:pt x="7370" y="7646"/>
                  <a:pt x="7367" y="7739"/>
                </a:cubicBezTo>
                <a:cubicBezTo>
                  <a:pt x="7363" y="7844"/>
                  <a:pt x="7349" y="7966"/>
                  <a:pt x="7392" y="8062"/>
                </a:cubicBezTo>
                <a:cubicBezTo>
                  <a:pt x="7414" y="8111"/>
                  <a:pt x="7485" y="8173"/>
                  <a:pt x="7541" y="8186"/>
                </a:cubicBezTo>
                <a:cubicBezTo>
                  <a:pt x="7606" y="8202"/>
                  <a:pt x="7687" y="8176"/>
                  <a:pt x="7739" y="8136"/>
                </a:cubicBezTo>
                <a:cubicBezTo>
                  <a:pt x="7812" y="8079"/>
                  <a:pt x="7846" y="8044"/>
                  <a:pt x="7888" y="7962"/>
                </a:cubicBezTo>
                <a:cubicBezTo>
                  <a:pt x="7908" y="7922"/>
                  <a:pt x="7917" y="7916"/>
                  <a:pt x="7913" y="7888"/>
                </a:cubicBezTo>
                <a:cubicBezTo>
                  <a:pt x="7864" y="7859"/>
                  <a:pt x="7817" y="7847"/>
                  <a:pt x="7764" y="7888"/>
                </a:cubicBezTo>
                <a:cubicBezTo>
                  <a:pt x="7701" y="7937"/>
                  <a:pt x="7646" y="8006"/>
                  <a:pt x="7590" y="8062"/>
                </a:cubicBezTo>
                <a:cubicBezTo>
                  <a:pt x="7542" y="8109"/>
                  <a:pt x="7526" y="8219"/>
                  <a:pt x="7516" y="8285"/>
                </a:cubicBezTo>
                <a:cubicBezTo>
                  <a:pt x="7516" y="8344"/>
                  <a:pt x="7513" y="8370"/>
                  <a:pt x="7491" y="84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009880" y="3813120"/>
            <a:ext cx="1054080" cy="330120"/>
          </a:xfrm>
          <a:custGeom>
            <a:avLst/>
            <a:gdLst/>
            <a:ahLst/>
            <a:rect l="l" t="t" r="r" b="b"/>
            <a:pathLst>
              <a:path w="2928" h="918">
                <a:moveTo>
                  <a:pt x="5581" y="10691"/>
                </a:moveTo>
                <a:cubicBezTo>
                  <a:pt x="5581" y="10674"/>
                  <a:pt x="5581" y="10658"/>
                  <a:pt x="5581" y="10641"/>
                </a:cubicBezTo>
                <a:cubicBezTo>
                  <a:pt x="5667" y="10641"/>
                  <a:pt x="5654" y="10619"/>
                  <a:pt x="5730" y="10592"/>
                </a:cubicBezTo>
                <a:cubicBezTo>
                  <a:pt x="5803" y="10567"/>
                  <a:pt x="5838" y="10634"/>
                  <a:pt x="5904" y="10641"/>
                </a:cubicBezTo>
                <a:cubicBezTo>
                  <a:pt x="5960" y="10647"/>
                  <a:pt x="5996" y="10680"/>
                  <a:pt x="6003" y="10740"/>
                </a:cubicBezTo>
                <a:cubicBezTo>
                  <a:pt x="6009" y="10791"/>
                  <a:pt x="5994" y="10854"/>
                  <a:pt x="5953" y="10889"/>
                </a:cubicBezTo>
                <a:cubicBezTo>
                  <a:pt x="5913" y="10924"/>
                  <a:pt x="5849" y="10961"/>
                  <a:pt x="5804" y="10988"/>
                </a:cubicBezTo>
                <a:cubicBezTo>
                  <a:pt x="5775" y="11005"/>
                  <a:pt x="5715" y="11058"/>
                  <a:pt x="5705" y="11063"/>
                </a:cubicBezTo>
                <a:cubicBezTo>
                  <a:pt x="5663" y="11084"/>
                  <a:pt x="5724" y="11063"/>
                  <a:pt x="5755" y="11063"/>
                </a:cubicBezTo>
                <a:cubicBezTo>
                  <a:pt x="5844" y="11063"/>
                  <a:pt x="5866" y="11059"/>
                  <a:pt x="5953" y="11112"/>
                </a:cubicBezTo>
                <a:cubicBezTo>
                  <a:pt x="6001" y="11141"/>
                  <a:pt x="6024" y="11213"/>
                  <a:pt x="6028" y="11261"/>
                </a:cubicBezTo>
                <a:cubicBezTo>
                  <a:pt x="6032" y="11306"/>
                  <a:pt x="6018" y="11336"/>
                  <a:pt x="5978" y="11361"/>
                </a:cubicBezTo>
                <a:cubicBezTo>
                  <a:pt x="5912" y="11402"/>
                  <a:pt x="5846" y="11412"/>
                  <a:pt x="5779" y="11435"/>
                </a:cubicBezTo>
                <a:cubicBezTo>
                  <a:pt x="5701" y="11461"/>
                  <a:pt x="5703" y="11457"/>
                  <a:pt x="5631" y="11435"/>
                </a:cubicBezTo>
                <a:cubicBezTo>
                  <a:pt x="5606" y="11435"/>
                  <a:pt x="5598" y="11435"/>
                  <a:pt x="5581" y="11435"/>
                </a:cubicBezTo>
                <a:cubicBezTo>
                  <a:pt x="5581" y="11390"/>
                  <a:pt x="5568" y="11373"/>
                  <a:pt x="5606" y="11361"/>
                </a:cubicBezTo>
              </a:path>
              <a:path w="2928" h="918">
                <a:moveTo>
                  <a:pt x="6176" y="11410"/>
                </a:moveTo>
                <a:cubicBezTo>
                  <a:pt x="6176" y="11477"/>
                  <a:pt x="6176" y="11393"/>
                  <a:pt x="6176" y="11385"/>
                </a:cubicBezTo>
              </a:path>
              <a:path w="2928" h="918">
                <a:moveTo>
                  <a:pt x="6573" y="10765"/>
                </a:moveTo>
                <a:cubicBezTo>
                  <a:pt x="6658" y="10715"/>
                  <a:pt x="6656" y="10716"/>
                  <a:pt x="6747" y="10716"/>
                </a:cubicBezTo>
                <a:cubicBezTo>
                  <a:pt x="6798" y="10716"/>
                  <a:pt x="6835" y="10733"/>
                  <a:pt x="6871" y="10765"/>
                </a:cubicBezTo>
                <a:cubicBezTo>
                  <a:pt x="6921" y="10809"/>
                  <a:pt x="6895" y="10847"/>
                  <a:pt x="6871" y="10889"/>
                </a:cubicBezTo>
                <a:cubicBezTo>
                  <a:pt x="6843" y="10937"/>
                  <a:pt x="6796" y="10982"/>
                  <a:pt x="6747" y="11013"/>
                </a:cubicBezTo>
                <a:cubicBezTo>
                  <a:pt x="6708" y="11038"/>
                  <a:pt x="6589" y="11031"/>
                  <a:pt x="6623" y="11063"/>
                </a:cubicBezTo>
                <a:cubicBezTo>
                  <a:pt x="6647" y="11086"/>
                  <a:pt x="6783" y="11068"/>
                  <a:pt x="6821" y="11088"/>
                </a:cubicBezTo>
                <a:cubicBezTo>
                  <a:pt x="6892" y="11125"/>
                  <a:pt x="6891" y="11126"/>
                  <a:pt x="6945" y="11187"/>
                </a:cubicBezTo>
                <a:cubicBezTo>
                  <a:pt x="6979" y="11225"/>
                  <a:pt x="6975" y="11275"/>
                  <a:pt x="6945" y="11311"/>
                </a:cubicBezTo>
                <a:cubicBezTo>
                  <a:pt x="6909" y="11353"/>
                  <a:pt x="6805" y="11444"/>
                  <a:pt x="6747" y="11460"/>
                </a:cubicBezTo>
                <a:cubicBezTo>
                  <a:pt x="6712" y="11469"/>
                  <a:pt x="6569" y="11477"/>
                  <a:pt x="6548" y="11435"/>
                </a:cubicBezTo>
                <a:cubicBezTo>
                  <a:pt x="6548" y="11407"/>
                  <a:pt x="6550" y="11396"/>
                  <a:pt x="6573" y="11385"/>
                </a:cubicBezTo>
              </a:path>
              <a:path w="2928" h="918">
                <a:moveTo>
                  <a:pt x="7243" y="10864"/>
                </a:moveTo>
                <a:cubicBezTo>
                  <a:pt x="7225" y="10953"/>
                  <a:pt x="7204" y="11051"/>
                  <a:pt x="7193" y="11137"/>
                </a:cubicBezTo>
                <a:cubicBezTo>
                  <a:pt x="7184" y="11208"/>
                  <a:pt x="7162" y="11294"/>
                  <a:pt x="7193" y="11361"/>
                </a:cubicBezTo>
                <a:cubicBezTo>
                  <a:pt x="7210" y="11398"/>
                  <a:pt x="7255" y="11461"/>
                  <a:pt x="7293" y="11485"/>
                </a:cubicBezTo>
                <a:cubicBezTo>
                  <a:pt x="7333" y="11511"/>
                  <a:pt x="7417" y="11523"/>
                  <a:pt x="7466" y="11509"/>
                </a:cubicBezTo>
                <a:cubicBezTo>
                  <a:pt x="7541" y="11488"/>
                  <a:pt x="7580" y="11450"/>
                  <a:pt x="7615" y="11385"/>
                </a:cubicBezTo>
                <a:cubicBezTo>
                  <a:pt x="7664" y="11293"/>
                  <a:pt x="7632" y="11200"/>
                  <a:pt x="7590" y="11112"/>
                </a:cubicBezTo>
                <a:cubicBezTo>
                  <a:pt x="7559" y="11048"/>
                  <a:pt x="7492" y="11016"/>
                  <a:pt x="7441" y="10964"/>
                </a:cubicBezTo>
                <a:cubicBezTo>
                  <a:pt x="7404" y="10927"/>
                  <a:pt x="7362" y="10916"/>
                  <a:pt x="7342" y="10889"/>
                </a:cubicBezTo>
                <a:cubicBezTo>
                  <a:pt x="7334" y="10881"/>
                  <a:pt x="7325" y="10872"/>
                  <a:pt x="7317" y="10864"/>
                </a:cubicBezTo>
              </a:path>
              <a:path w="2928" h="918">
                <a:moveTo>
                  <a:pt x="7764" y="10716"/>
                </a:moveTo>
                <a:cubicBezTo>
                  <a:pt x="7819" y="10701"/>
                  <a:pt x="7902" y="10671"/>
                  <a:pt x="7962" y="10691"/>
                </a:cubicBezTo>
                <a:cubicBezTo>
                  <a:pt x="8049" y="10720"/>
                  <a:pt x="8120" y="10753"/>
                  <a:pt x="8186" y="10815"/>
                </a:cubicBezTo>
                <a:cubicBezTo>
                  <a:pt x="8260" y="10885"/>
                  <a:pt x="8279" y="10968"/>
                  <a:pt x="8310" y="11063"/>
                </a:cubicBezTo>
                <a:cubicBezTo>
                  <a:pt x="8338" y="11149"/>
                  <a:pt x="8338" y="11228"/>
                  <a:pt x="8310" y="11311"/>
                </a:cubicBezTo>
                <a:cubicBezTo>
                  <a:pt x="8289" y="11374"/>
                  <a:pt x="8199" y="11463"/>
                  <a:pt x="8136" y="11485"/>
                </a:cubicBezTo>
                <a:cubicBezTo>
                  <a:pt x="8082" y="11504"/>
                  <a:pt x="8027" y="11472"/>
                  <a:pt x="7987" y="11460"/>
                </a:cubicBezTo>
                <a:cubicBezTo>
                  <a:pt x="7938" y="11445"/>
                  <a:pt x="7938" y="11437"/>
                  <a:pt x="7938" y="11385"/>
                </a:cubicBezTo>
                <a:cubicBezTo>
                  <a:pt x="7938" y="11361"/>
                  <a:pt x="7938" y="11352"/>
                  <a:pt x="7938" y="11336"/>
                </a:cubicBezTo>
                <a:cubicBezTo>
                  <a:pt x="8036" y="11336"/>
                  <a:pt x="8119" y="11346"/>
                  <a:pt x="8210" y="11361"/>
                </a:cubicBezTo>
                <a:cubicBezTo>
                  <a:pt x="8275" y="11372"/>
                  <a:pt x="8329" y="11381"/>
                  <a:pt x="8384" y="11410"/>
                </a:cubicBezTo>
                <a:cubicBezTo>
                  <a:pt x="8435" y="11437"/>
                  <a:pt x="8461" y="11456"/>
                  <a:pt x="8483" y="11485"/>
                </a:cubicBezTo>
                <a:cubicBezTo>
                  <a:pt x="8491" y="11493"/>
                  <a:pt x="8500" y="11501"/>
                  <a:pt x="8508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atural Base</a:t>
            </a: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 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1640" y="2666520"/>
            <a:ext cx="38862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value is approximately 2.718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Table 5" descr=""/>
          <p:cNvPicPr/>
          <p:nvPr/>
        </p:nvPicPr>
        <p:blipFill>
          <a:blip r:embed="rId2"/>
          <a:stretch/>
        </p:blipFill>
        <p:spPr>
          <a:xfrm>
            <a:off x="536400" y="1755720"/>
            <a:ext cx="3121200" cy="4761000"/>
          </a:xfrm>
          <a:prstGeom prst="rect">
            <a:avLst/>
          </a:prstGeom>
          <a:ln w="0">
            <a:noFill/>
          </a:ln>
        </p:spPr>
      </p:pic>
      <p:sp>
        <p:nvSpPr>
          <p:cNvPr id="68" name="Right Arrow 7"/>
          <p:cNvSpPr/>
          <p:nvPr/>
        </p:nvSpPr>
        <p:spPr>
          <a:xfrm>
            <a:off x="1143000" y="619596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62520" y="1447920"/>
          <a:ext cx="289548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447920"/>
                    <a:ext cx="28954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lculat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5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2081160" y="1973160"/>
            <a:ext cx="1170000" cy="473040"/>
          </a:xfrm>
          <a:custGeom>
            <a:avLst/>
            <a:gdLst/>
            <a:ahLst/>
            <a:rect l="l" t="t" r="r" b="b"/>
            <a:pathLst>
              <a:path w="3251" h="1315">
                <a:moveTo>
                  <a:pt x="5854" y="5507"/>
                </a:moveTo>
                <a:cubicBezTo>
                  <a:pt x="5854" y="5603"/>
                  <a:pt x="5842" y="5686"/>
                  <a:pt x="5829" y="5779"/>
                </a:cubicBezTo>
                <a:cubicBezTo>
                  <a:pt x="5811" y="5906"/>
                  <a:pt x="5817" y="6048"/>
                  <a:pt x="5804" y="6176"/>
                </a:cubicBezTo>
                <a:cubicBezTo>
                  <a:pt x="5798" y="6238"/>
                  <a:pt x="5771" y="6397"/>
                  <a:pt x="5779" y="6449"/>
                </a:cubicBezTo>
                <a:cubicBezTo>
                  <a:pt x="5785" y="6485"/>
                  <a:pt x="5804" y="6584"/>
                  <a:pt x="5804" y="6548"/>
                </a:cubicBezTo>
                <a:cubicBezTo>
                  <a:pt x="5804" y="6540"/>
                  <a:pt x="5804" y="6532"/>
                  <a:pt x="5804" y="6524"/>
                </a:cubicBezTo>
              </a:path>
              <a:path w="3251" h="1315">
                <a:moveTo>
                  <a:pt x="6102" y="5556"/>
                </a:moveTo>
                <a:cubicBezTo>
                  <a:pt x="6127" y="5590"/>
                  <a:pt x="6143" y="5633"/>
                  <a:pt x="6127" y="5680"/>
                </a:cubicBezTo>
                <a:cubicBezTo>
                  <a:pt x="6099" y="5764"/>
                  <a:pt x="6097" y="5843"/>
                  <a:pt x="6077" y="5928"/>
                </a:cubicBezTo>
                <a:cubicBezTo>
                  <a:pt x="6055" y="6024"/>
                  <a:pt x="6046" y="6105"/>
                  <a:pt x="6028" y="6201"/>
                </a:cubicBezTo>
                <a:cubicBezTo>
                  <a:pt x="6009" y="6304"/>
                  <a:pt x="6012" y="6327"/>
                  <a:pt x="6028" y="6424"/>
                </a:cubicBezTo>
                <a:cubicBezTo>
                  <a:pt x="6046" y="6532"/>
                  <a:pt x="6048" y="6509"/>
                  <a:pt x="6127" y="6548"/>
                </a:cubicBezTo>
                <a:cubicBezTo>
                  <a:pt x="6179" y="6574"/>
                  <a:pt x="6240" y="6575"/>
                  <a:pt x="6300" y="6548"/>
                </a:cubicBezTo>
                <a:cubicBezTo>
                  <a:pt x="6358" y="6522"/>
                  <a:pt x="6412" y="6444"/>
                  <a:pt x="6449" y="6400"/>
                </a:cubicBezTo>
                <a:cubicBezTo>
                  <a:pt x="6485" y="6357"/>
                  <a:pt x="6495" y="6284"/>
                  <a:pt x="6499" y="6226"/>
                </a:cubicBezTo>
                <a:cubicBezTo>
                  <a:pt x="6501" y="6203"/>
                  <a:pt x="6459" y="6098"/>
                  <a:pt x="6424" y="6102"/>
                </a:cubicBezTo>
                <a:cubicBezTo>
                  <a:pt x="6373" y="6108"/>
                  <a:pt x="6334" y="6174"/>
                  <a:pt x="6300" y="6201"/>
                </a:cubicBezTo>
                <a:cubicBezTo>
                  <a:pt x="6245" y="6245"/>
                  <a:pt x="6219" y="6277"/>
                  <a:pt x="6201" y="6350"/>
                </a:cubicBezTo>
                <a:cubicBezTo>
                  <a:pt x="6190" y="6395"/>
                  <a:pt x="6194" y="6463"/>
                  <a:pt x="6226" y="6474"/>
                </a:cubicBezTo>
              </a:path>
              <a:path w="3251" h="1315">
                <a:moveTo>
                  <a:pt x="6722" y="5581"/>
                </a:moveTo>
                <a:cubicBezTo>
                  <a:pt x="6714" y="5611"/>
                  <a:pt x="6709" y="5676"/>
                  <a:pt x="6697" y="5705"/>
                </a:cubicBezTo>
                <a:cubicBezTo>
                  <a:pt x="6681" y="5744"/>
                  <a:pt x="6660" y="5788"/>
                  <a:pt x="6648" y="5829"/>
                </a:cubicBezTo>
                <a:cubicBezTo>
                  <a:pt x="6637" y="5867"/>
                  <a:pt x="6623" y="5884"/>
                  <a:pt x="6623" y="5928"/>
                </a:cubicBezTo>
                <a:cubicBezTo>
                  <a:pt x="6623" y="5968"/>
                  <a:pt x="6662" y="5957"/>
                  <a:pt x="6672" y="5978"/>
                </a:cubicBezTo>
                <a:cubicBezTo>
                  <a:pt x="6685" y="6004"/>
                  <a:pt x="6730" y="6018"/>
                  <a:pt x="6772" y="6003"/>
                </a:cubicBezTo>
                <a:cubicBezTo>
                  <a:pt x="6820" y="5986"/>
                  <a:pt x="6876" y="5971"/>
                  <a:pt x="6921" y="5953"/>
                </a:cubicBezTo>
                <a:cubicBezTo>
                  <a:pt x="6966" y="5935"/>
                  <a:pt x="6987" y="5911"/>
                  <a:pt x="7020" y="5879"/>
                </a:cubicBezTo>
              </a:path>
              <a:path w="3251" h="1315">
                <a:moveTo>
                  <a:pt x="7045" y="5482"/>
                </a:moveTo>
                <a:cubicBezTo>
                  <a:pt x="7014" y="5566"/>
                  <a:pt x="6995" y="5617"/>
                  <a:pt x="6995" y="5705"/>
                </a:cubicBezTo>
                <a:cubicBezTo>
                  <a:pt x="6995" y="5809"/>
                  <a:pt x="6956" y="5902"/>
                  <a:pt x="6945" y="6003"/>
                </a:cubicBezTo>
                <a:cubicBezTo>
                  <a:pt x="6932" y="6120"/>
                  <a:pt x="6937" y="6235"/>
                  <a:pt x="6921" y="6350"/>
                </a:cubicBezTo>
                <a:cubicBezTo>
                  <a:pt x="6912" y="6417"/>
                  <a:pt x="6929" y="6470"/>
                  <a:pt x="6945" y="6524"/>
                </a:cubicBezTo>
                <a:cubicBezTo>
                  <a:pt x="6957" y="6565"/>
                  <a:pt x="6917" y="6583"/>
                  <a:pt x="6970" y="6548"/>
                </a:cubicBezTo>
              </a:path>
              <a:path w="3251" h="1315">
                <a:moveTo>
                  <a:pt x="7218" y="6499"/>
                </a:moveTo>
                <a:cubicBezTo>
                  <a:pt x="7210" y="6499"/>
                  <a:pt x="7201" y="6499"/>
                  <a:pt x="7193" y="6499"/>
                </a:cubicBezTo>
              </a:path>
              <a:path w="3251" h="1315">
                <a:moveTo>
                  <a:pt x="7739" y="5730"/>
                </a:moveTo>
                <a:cubicBezTo>
                  <a:pt x="7728" y="5772"/>
                  <a:pt x="7709" y="5809"/>
                  <a:pt x="7689" y="5854"/>
                </a:cubicBezTo>
                <a:cubicBezTo>
                  <a:pt x="7651" y="5936"/>
                  <a:pt x="7624" y="6019"/>
                  <a:pt x="7590" y="6102"/>
                </a:cubicBezTo>
                <a:cubicBezTo>
                  <a:pt x="7562" y="6171"/>
                  <a:pt x="7545" y="6251"/>
                  <a:pt x="7541" y="6325"/>
                </a:cubicBezTo>
                <a:cubicBezTo>
                  <a:pt x="7538" y="6377"/>
                  <a:pt x="7560" y="6454"/>
                  <a:pt x="7590" y="6499"/>
                </a:cubicBezTo>
                <a:cubicBezTo>
                  <a:pt x="7613" y="6534"/>
                  <a:pt x="7699" y="6566"/>
                  <a:pt x="7739" y="6573"/>
                </a:cubicBezTo>
                <a:cubicBezTo>
                  <a:pt x="7827" y="6589"/>
                  <a:pt x="7912" y="6537"/>
                  <a:pt x="7987" y="6499"/>
                </a:cubicBezTo>
                <a:cubicBezTo>
                  <a:pt x="8091" y="6447"/>
                  <a:pt x="8150" y="6335"/>
                  <a:pt x="8186" y="6226"/>
                </a:cubicBezTo>
                <a:cubicBezTo>
                  <a:pt x="8212" y="6148"/>
                  <a:pt x="8198" y="6103"/>
                  <a:pt x="8186" y="6028"/>
                </a:cubicBezTo>
                <a:cubicBezTo>
                  <a:pt x="8175" y="5958"/>
                  <a:pt x="8161" y="5909"/>
                  <a:pt x="8111" y="5854"/>
                </a:cubicBezTo>
                <a:cubicBezTo>
                  <a:pt x="8075" y="5814"/>
                  <a:pt x="8026" y="5794"/>
                  <a:pt x="7987" y="5755"/>
                </a:cubicBezTo>
                <a:cubicBezTo>
                  <a:pt x="7950" y="5719"/>
                  <a:pt x="7912" y="5730"/>
                  <a:pt x="7863" y="5730"/>
                </a:cubicBezTo>
                <a:cubicBezTo>
                  <a:pt x="7827" y="5730"/>
                  <a:pt x="7793" y="5758"/>
                  <a:pt x="7764" y="5779"/>
                </a:cubicBezTo>
              </a:path>
              <a:path w="3251" h="1315">
                <a:moveTo>
                  <a:pt x="8235" y="5755"/>
                </a:moveTo>
                <a:cubicBezTo>
                  <a:pt x="8282" y="5708"/>
                  <a:pt x="8325" y="5667"/>
                  <a:pt x="8384" y="5655"/>
                </a:cubicBezTo>
                <a:cubicBezTo>
                  <a:pt x="8443" y="5643"/>
                  <a:pt x="8540" y="5646"/>
                  <a:pt x="8582" y="5680"/>
                </a:cubicBezTo>
                <a:cubicBezTo>
                  <a:pt x="8621" y="5711"/>
                  <a:pt x="8678" y="5719"/>
                  <a:pt x="8706" y="5755"/>
                </a:cubicBezTo>
                <a:cubicBezTo>
                  <a:pt x="8747" y="5807"/>
                  <a:pt x="8736" y="5889"/>
                  <a:pt x="8731" y="5928"/>
                </a:cubicBezTo>
                <a:cubicBezTo>
                  <a:pt x="8719" y="6021"/>
                  <a:pt x="8708" y="6038"/>
                  <a:pt x="8657" y="6127"/>
                </a:cubicBezTo>
                <a:cubicBezTo>
                  <a:pt x="8625" y="6183"/>
                  <a:pt x="8595" y="6247"/>
                  <a:pt x="8558" y="6300"/>
                </a:cubicBezTo>
                <a:cubicBezTo>
                  <a:pt x="8515" y="6363"/>
                  <a:pt x="8452" y="6412"/>
                  <a:pt x="8409" y="6474"/>
                </a:cubicBezTo>
                <a:cubicBezTo>
                  <a:pt x="8390" y="6501"/>
                  <a:pt x="8341" y="6596"/>
                  <a:pt x="8334" y="6623"/>
                </a:cubicBezTo>
                <a:cubicBezTo>
                  <a:pt x="8327" y="6651"/>
                  <a:pt x="8327" y="6710"/>
                  <a:pt x="8359" y="6722"/>
                </a:cubicBezTo>
                <a:cubicBezTo>
                  <a:pt x="8445" y="6755"/>
                  <a:pt x="8614" y="6734"/>
                  <a:pt x="8706" y="6747"/>
                </a:cubicBezTo>
                <a:cubicBezTo>
                  <a:pt x="8773" y="6757"/>
                  <a:pt x="8839" y="6768"/>
                  <a:pt x="8905" y="6772"/>
                </a:cubicBezTo>
                <a:cubicBezTo>
                  <a:pt x="8938" y="6774"/>
                  <a:pt x="8997" y="6814"/>
                  <a:pt x="9029" y="6796"/>
                </a:cubicBezTo>
                <a:cubicBezTo>
                  <a:pt x="9060" y="6779"/>
                  <a:pt x="9006" y="6744"/>
                  <a:pt x="8979" y="67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1857240" y="3268800"/>
            <a:ext cx="1017720" cy="374400"/>
          </a:xfrm>
          <a:custGeom>
            <a:avLst/>
            <a:gdLst/>
            <a:ahLst/>
            <a:rect l="l" t="t" r="r" b="b"/>
            <a:pathLst>
              <a:path w="2829" h="1042">
                <a:moveTo>
                  <a:pt x="5159" y="9996"/>
                </a:moveTo>
                <a:cubicBezTo>
                  <a:pt x="5207" y="9964"/>
                  <a:pt x="5167" y="9997"/>
                  <a:pt x="5159" y="10046"/>
                </a:cubicBezTo>
                <a:cubicBezTo>
                  <a:pt x="5190" y="10026"/>
                  <a:pt x="5184" y="10020"/>
                  <a:pt x="5184" y="9971"/>
                </a:cubicBezTo>
              </a:path>
              <a:path w="2829" h="1042">
                <a:moveTo>
                  <a:pt x="5680" y="9252"/>
                </a:moveTo>
                <a:cubicBezTo>
                  <a:pt x="5672" y="9297"/>
                  <a:pt x="5654" y="9329"/>
                  <a:pt x="5631" y="9376"/>
                </a:cubicBezTo>
                <a:cubicBezTo>
                  <a:pt x="5609" y="9420"/>
                  <a:pt x="5565" y="9496"/>
                  <a:pt x="5556" y="9550"/>
                </a:cubicBezTo>
                <a:cubicBezTo>
                  <a:pt x="5549" y="9587"/>
                  <a:pt x="5524" y="9744"/>
                  <a:pt x="5531" y="9773"/>
                </a:cubicBezTo>
                <a:cubicBezTo>
                  <a:pt x="5546" y="9834"/>
                  <a:pt x="5555" y="9919"/>
                  <a:pt x="5581" y="9971"/>
                </a:cubicBezTo>
                <a:cubicBezTo>
                  <a:pt x="5625" y="10058"/>
                  <a:pt x="5697" y="10046"/>
                  <a:pt x="5779" y="10046"/>
                </a:cubicBezTo>
                <a:cubicBezTo>
                  <a:pt x="5893" y="10046"/>
                  <a:pt x="5933" y="9978"/>
                  <a:pt x="6003" y="9922"/>
                </a:cubicBezTo>
                <a:cubicBezTo>
                  <a:pt x="6087" y="9855"/>
                  <a:pt x="6107" y="9806"/>
                  <a:pt x="6127" y="9699"/>
                </a:cubicBezTo>
                <a:cubicBezTo>
                  <a:pt x="6143" y="9615"/>
                  <a:pt x="6150" y="9536"/>
                  <a:pt x="6127" y="9451"/>
                </a:cubicBezTo>
                <a:cubicBezTo>
                  <a:pt x="6113" y="9400"/>
                  <a:pt x="6021" y="9287"/>
                  <a:pt x="5978" y="9252"/>
                </a:cubicBezTo>
                <a:cubicBezTo>
                  <a:pt x="5930" y="9212"/>
                  <a:pt x="5861" y="9227"/>
                  <a:pt x="5804" y="9227"/>
                </a:cubicBezTo>
                <a:cubicBezTo>
                  <a:pt x="5728" y="9227"/>
                  <a:pt x="5674" y="9223"/>
                  <a:pt x="5631" y="9302"/>
                </a:cubicBezTo>
                <a:cubicBezTo>
                  <a:pt x="5610" y="9340"/>
                  <a:pt x="5591" y="9430"/>
                  <a:pt x="5606" y="9475"/>
                </a:cubicBezTo>
                <a:cubicBezTo>
                  <a:pt x="5641" y="9579"/>
                  <a:pt x="5637" y="9587"/>
                  <a:pt x="5705" y="9674"/>
                </a:cubicBezTo>
              </a:path>
              <a:path w="2829" h="1042">
                <a:moveTo>
                  <a:pt x="6524" y="9079"/>
                </a:moveTo>
                <a:cubicBezTo>
                  <a:pt x="6524" y="9143"/>
                  <a:pt x="6508" y="9202"/>
                  <a:pt x="6499" y="9252"/>
                </a:cubicBezTo>
                <a:cubicBezTo>
                  <a:pt x="6459" y="9467"/>
                  <a:pt x="6507" y="9706"/>
                  <a:pt x="6474" y="9922"/>
                </a:cubicBezTo>
                <a:cubicBezTo>
                  <a:pt x="6459" y="10021"/>
                  <a:pt x="6500" y="9909"/>
                  <a:pt x="6548" y="9897"/>
                </a:cubicBezTo>
              </a:path>
              <a:path w="2829" h="1042">
                <a:moveTo>
                  <a:pt x="7243" y="9227"/>
                </a:moveTo>
                <a:cubicBezTo>
                  <a:pt x="7192" y="9171"/>
                  <a:pt x="7165" y="9103"/>
                  <a:pt x="7094" y="9103"/>
                </a:cubicBezTo>
                <a:cubicBezTo>
                  <a:pt x="7052" y="9139"/>
                  <a:pt x="7009" y="9148"/>
                  <a:pt x="6995" y="9178"/>
                </a:cubicBezTo>
                <a:cubicBezTo>
                  <a:pt x="6951" y="9271"/>
                  <a:pt x="6948" y="9249"/>
                  <a:pt x="6970" y="9376"/>
                </a:cubicBezTo>
                <a:cubicBezTo>
                  <a:pt x="6980" y="9435"/>
                  <a:pt x="7013" y="9497"/>
                  <a:pt x="7045" y="9550"/>
                </a:cubicBezTo>
                <a:cubicBezTo>
                  <a:pt x="7083" y="9612"/>
                  <a:pt x="7152" y="9706"/>
                  <a:pt x="7169" y="9773"/>
                </a:cubicBezTo>
                <a:cubicBezTo>
                  <a:pt x="7181" y="9822"/>
                  <a:pt x="7219" y="9927"/>
                  <a:pt x="7169" y="9971"/>
                </a:cubicBezTo>
                <a:cubicBezTo>
                  <a:pt x="7148" y="9990"/>
                  <a:pt x="7102" y="9996"/>
                  <a:pt x="7069" y="9996"/>
                </a:cubicBezTo>
                <a:cubicBezTo>
                  <a:pt x="7034" y="9996"/>
                  <a:pt x="6966" y="9997"/>
                  <a:pt x="6945" y="9971"/>
                </a:cubicBezTo>
                <a:cubicBezTo>
                  <a:pt x="6921" y="9941"/>
                  <a:pt x="6898" y="9859"/>
                  <a:pt x="6896" y="9823"/>
                </a:cubicBezTo>
                <a:cubicBezTo>
                  <a:pt x="6892" y="9756"/>
                  <a:pt x="6956" y="9677"/>
                  <a:pt x="6995" y="9624"/>
                </a:cubicBezTo>
                <a:cubicBezTo>
                  <a:pt x="7045" y="9558"/>
                  <a:pt x="7069" y="9471"/>
                  <a:pt x="7119" y="9401"/>
                </a:cubicBezTo>
                <a:cubicBezTo>
                  <a:pt x="7154" y="9366"/>
                  <a:pt x="7167" y="9344"/>
                  <a:pt x="7169" y="9302"/>
                </a:cubicBezTo>
              </a:path>
              <a:path w="2829" h="1042">
                <a:moveTo>
                  <a:pt x="7466" y="9153"/>
                </a:moveTo>
                <a:cubicBezTo>
                  <a:pt x="7565" y="9153"/>
                  <a:pt x="7647" y="9163"/>
                  <a:pt x="7739" y="9178"/>
                </a:cubicBezTo>
                <a:cubicBezTo>
                  <a:pt x="7853" y="9197"/>
                  <a:pt x="7846" y="9241"/>
                  <a:pt x="7913" y="9302"/>
                </a:cubicBezTo>
                <a:cubicBezTo>
                  <a:pt x="7945" y="9331"/>
                  <a:pt x="7949" y="9347"/>
                  <a:pt x="7913" y="9401"/>
                </a:cubicBezTo>
                <a:cubicBezTo>
                  <a:pt x="7876" y="9457"/>
                  <a:pt x="7829" y="9524"/>
                  <a:pt x="7764" y="9550"/>
                </a:cubicBezTo>
                <a:cubicBezTo>
                  <a:pt x="7717" y="9569"/>
                  <a:pt x="7725" y="9599"/>
                  <a:pt x="7665" y="9599"/>
                </a:cubicBezTo>
                <a:cubicBezTo>
                  <a:pt x="7598" y="9599"/>
                  <a:pt x="7703" y="9599"/>
                  <a:pt x="7714" y="9599"/>
                </a:cubicBezTo>
                <a:cubicBezTo>
                  <a:pt x="7829" y="9599"/>
                  <a:pt x="7857" y="9586"/>
                  <a:pt x="7938" y="9674"/>
                </a:cubicBezTo>
                <a:cubicBezTo>
                  <a:pt x="7990" y="9731"/>
                  <a:pt x="7987" y="9771"/>
                  <a:pt x="7987" y="9847"/>
                </a:cubicBezTo>
                <a:cubicBezTo>
                  <a:pt x="7987" y="9914"/>
                  <a:pt x="8009" y="10022"/>
                  <a:pt x="7938" y="10046"/>
                </a:cubicBezTo>
                <a:cubicBezTo>
                  <a:pt x="7890" y="10062"/>
                  <a:pt x="7873" y="10105"/>
                  <a:pt x="7838" y="10120"/>
                </a:cubicBezTo>
                <a:cubicBezTo>
                  <a:pt x="7759" y="10154"/>
                  <a:pt x="7707" y="10087"/>
                  <a:pt x="7665" y="10071"/>
                </a:cubicBezTo>
                <a:cubicBezTo>
                  <a:pt x="7629" y="10057"/>
                  <a:pt x="7582" y="10046"/>
                  <a:pt x="7541" y="10046"/>
                </a:cubicBezTo>
                <a:cubicBezTo>
                  <a:pt x="7491" y="10046"/>
                  <a:pt x="7491" y="9982"/>
                  <a:pt x="7441" y="9971"/>
                </a:cubicBezTo>
                <a:cubicBezTo>
                  <a:pt x="7425" y="9971"/>
                  <a:pt x="7408" y="9971"/>
                  <a:pt x="7392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1955880" y="4367160"/>
            <a:ext cx="1214280" cy="615960"/>
          </a:xfrm>
          <a:custGeom>
            <a:avLst/>
            <a:gdLst/>
            <a:ahLst/>
            <a:rect l="l" t="t" r="r" b="b"/>
            <a:pathLst>
              <a:path w="3375" h="1713">
                <a:moveTo>
                  <a:pt x="5531" y="12129"/>
                </a:moveTo>
                <a:cubicBezTo>
                  <a:pt x="5531" y="12273"/>
                  <a:pt x="5521" y="12414"/>
                  <a:pt x="5507" y="12551"/>
                </a:cubicBezTo>
                <a:cubicBezTo>
                  <a:pt x="5494" y="12677"/>
                  <a:pt x="5500" y="12799"/>
                  <a:pt x="5482" y="12923"/>
                </a:cubicBezTo>
                <a:cubicBezTo>
                  <a:pt x="5472" y="12994"/>
                  <a:pt x="5463" y="13057"/>
                  <a:pt x="5457" y="13122"/>
                </a:cubicBezTo>
                <a:cubicBezTo>
                  <a:pt x="5454" y="13155"/>
                  <a:pt x="5402" y="13181"/>
                  <a:pt x="5432" y="13196"/>
                </a:cubicBezTo>
                <a:cubicBezTo>
                  <a:pt x="5440" y="13196"/>
                  <a:pt x="5449" y="13196"/>
                  <a:pt x="5457" y="13196"/>
                </a:cubicBezTo>
              </a:path>
              <a:path w="3375" h="1713">
                <a:moveTo>
                  <a:pt x="5755" y="13196"/>
                </a:moveTo>
                <a:cubicBezTo>
                  <a:pt x="5787" y="13196"/>
                  <a:pt x="5796" y="13154"/>
                  <a:pt x="5804" y="13122"/>
                </a:cubicBezTo>
              </a:path>
              <a:path w="3375" h="1713">
                <a:moveTo>
                  <a:pt x="6300" y="12427"/>
                </a:moveTo>
                <a:cubicBezTo>
                  <a:pt x="6300" y="12368"/>
                  <a:pt x="6286" y="12462"/>
                  <a:pt x="6276" y="12477"/>
                </a:cubicBezTo>
                <a:cubicBezTo>
                  <a:pt x="6226" y="12553"/>
                  <a:pt x="6225" y="12591"/>
                  <a:pt x="6201" y="12675"/>
                </a:cubicBezTo>
                <a:cubicBezTo>
                  <a:pt x="6178" y="12755"/>
                  <a:pt x="6155" y="12837"/>
                  <a:pt x="6152" y="12923"/>
                </a:cubicBezTo>
                <a:cubicBezTo>
                  <a:pt x="6148" y="13018"/>
                  <a:pt x="6159" y="13063"/>
                  <a:pt x="6201" y="13146"/>
                </a:cubicBezTo>
                <a:cubicBezTo>
                  <a:pt x="6231" y="13206"/>
                  <a:pt x="6251" y="13278"/>
                  <a:pt x="6325" y="13295"/>
                </a:cubicBezTo>
                <a:cubicBezTo>
                  <a:pt x="6415" y="13316"/>
                  <a:pt x="6432" y="13334"/>
                  <a:pt x="6524" y="13271"/>
                </a:cubicBezTo>
                <a:cubicBezTo>
                  <a:pt x="6574" y="13237"/>
                  <a:pt x="6593" y="13202"/>
                  <a:pt x="6598" y="13146"/>
                </a:cubicBezTo>
                <a:cubicBezTo>
                  <a:pt x="6601" y="13107"/>
                  <a:pt x="6614" y="13018"/>
                  <a:pt x="6573" y="12998"/>
                </a:cubicBezTo>
                <a:cubicBezTo>
                  <a:pt x="6540" y="12982"/>
                  <a:pt x="6496" y="13003"/>
                  <a:pt x="6474" y="13022"/>
                </a:cubicBezTo>
                <a:cubicBezTo>
                  <a:pt x="6426" y="13064"/>
                  <a:pt x="6405" y="13084"/>
                  <a:pt x="6400" y="13146"/>
                </a:cubicBezTo>
                <a:cubicBezTo>
                  <a:pt x="6397" y="13178"/>
                  <a:pt x="6389" y="13228"/>
                  <a:pt x="6424" y="13246"/>
                </a:cubicBezTo>
                <a:cubicBezTo>
                  <a:pt x="6449" y="13246"/>
                  <a:pt x="6457" y="13246"/>
                  <a:pt x="6474" y="13246"/>
                </a:cubicBezTo>
              </a:path>
              <a:path w="3375" h="1713">
                <a:moveTo>
                  <a:pt x="6846" y="12427"/>
                </a:moveTo>
                <a:cubicBezTo>
                  <a:pt x="6837" y="12488"/>
                  <a:pt x="6813" y="12500"/>
                  <a:pt x="6796" y="12551"/>
                </a:cubicBezTo>
                <a:cubicBezTo>
                  <a:pt x="6781" y="12596"/>
                  <a:pt x="6790" y="12642"/>
                  <a:pt x="6796" y="12675"/>
                </a:cubicBezTo>
                <a:cubicBezTo>
                  <a:pt x="6807" y="12730"/>
                  <a:pt x="6783" y="12756"/>
                  <a:pt x="6821" y="12799"/>
                </a:cubicBezTo>
                <a:cubicBezTo>
                  <a:pt x="6847" y="12829"/>
                  <a:pt x="6887" y="12862"/>
                  <a:pt x="6921" y="12874"/>
                </a:cubicBezTo>
                <a:cubicBezTo>
                  <a:pt x="6962" y="12888"/>
                  <a:pt x="7023" y="12913"/>
                  <a:pt x="7069" y="12898"/>
                </a:cubicBezTo>
                <a:cubicBezTo>
                  <a:pt x="7115" y="12883"/>
                  <a:pt x="7137" y="12856"/>
                  <a:pt x="7169" y="12824"/>
                </a:cubicBezTo>
              </a:path>
              <a:path w="3375" h="1713">
                <a:moveTo>
                  <a:pt x="7218" y="12328"/>
                </a:moveTo>
                <a:cubicBezTo>
                  <a:pt x="7168" y="12378"/>
                  <a:pt x="7155" y="12428"/>
                  <a:pt x="7144" y="12502"/>
                </a:cubicBezTo>
                <a:cubicBezTo>
                  <a:pt x="7130" y="12598"/>
                  <a:pt x="7129" y="12704"/>
                  <a:pt x="7119" y="12799"/>
                </a:cubicBezTo>
                <a:cubicBezTo>
                  <a:pt x="7101" y="12963"/>
                  <a:pt x="7126" y="13140"/>
                  <a:pt x="7144" y="13295"/>
                </a:cubicBezTo>
                <a:cubicBezTo>
                  <a:pt x="7153" y="13371"/>
                  <a:pt x="7127" y="13378"/>
                  <a:pt x="7193" y="13395"/>
                </a:cubicBezTo>
              </a:path>
              <a:path w="3375" h="1713">
                <a:moveTo>
                  <a:pt x="7813" y="12626"/>
                </a:moveTo>
                <a:cubicBezTo>
                  <a:pt x="7782" y="12545"/>
                  <a:pt x="7783" y="12532"/>
                  <a:pt x="7714" y="12502"/>
                </a:cubicBezTo>
                <a:cubicBezTo>
                  <a:pt x="7688" y="12491"/>
                  <a:pt x="7624" y="12458"/>
                  <a:pt x="7590" y="12477"/>
                </a:cubicBezTo>
                <a:cubicBezTo>
                  <a:pt x="7556" y="12496"/>
                  <a:pt x="7519" y="12508"/>
                  <a:pt x="7516" y="12551"/>
                </a:cubicBezTo>
                <a:cubicBezTo>
                  <a:pt x="7511" y="12619"/>
                  <a:pt x="7513" y="12665"/>
                  <a:pt x="7541" y="12725"/>
                </a:cubicBezTo>
                <a:cubicBezTo>
                  <a:pt x="7580" y="12808"/>
                  <a:pt x="7616" y="12872"/>
                  <a:pt x="7665" y="12948"/>
                </a:cubicBezTo>
                <a:cubicBezTo>
                  <a:pt x="7717" y="13029"/>
                  <a:pt x="7769" y="13111"/>
                  <a:pt x="7813" y="13196"/>
                </a:cubicBezTo>
                <a:cubicBezTo>
                  <a:pt x="7848" y="13264"/>
                  <a:pt x="7863" y="13320"/>
                  <a:pt x="7863" y="13395"/>
                </a:cubicBezTo>
                <a:cubicBezTo>
                  <a:pt x="7863" y="13454"/>
                  <a:pt x="7870" y="13451"/>
                  <a:pt x="7838" y="13494"/>
                </a:cubicBezTo>
                <a:cubicBezTo>
                  <a:pt x="7781" y="13483"/>
                  <a:pt x="7707" y="13464"/>
                  <a:pt x="7665" y="13419"/>
                </a:cubicBezTo>
                <a:cubicBezTo>
                  <a:pt x="7632" y="13384"/>
                  <a:pt x="7582" y="13308"/>
                  <a:pt x="7565" y="13271"/>
                </a:cubicBezTo>
                <a:cubicBezTo>
                  <a:pt x="7542" y="13221"/>
                  <a:pt x="7495" y="13183"/>
                  <a:pt x="7516" y="13122"/>
                </a:cubicBezTo>
                <a:cubicBezTo>
                  <a:pt x="7543" y="13042"/>
                  <a:pt x="7605" y="13024"/>
                  <a:pt x="7665" y="12973"/>
                </a:cubicBezTo>
                <a:cubicBezTo>
                  <a:pt x="7716" y="12929"/>
                  <a:pt x="7762" y="12890"/>
                  <a:pt x="7813" y="12849"/>
                </a:cubicBezTo>
              </a:path>
              <a:path w="3375" h="1713">
                <a:moveTo>
                  <a:pt x="8037" y="12526"/>
                </a:moveTo>
                <a:cubicBezTo>
                  <a:pt x="8099" y="12503"/>
                  <a:pt x="8120" y="12502"/>
                  <a:pt x="8186" y="12502"/>
                </a:cubicBezTo>
                <a:cubicBezTo>
                  <a:pt x="8239" y="12502"/>
                  <a:pt x="8331" y="12509"/>
                  <a:pt x="8384" y="12526"/>
                </a:cubicBezTo>
                <a:cubicBezTo>
                  <a:pt x="8453" y="12548"/>
                  <a:pt x="8515" y="12578"/>
                  <a:pt x="8582" y="12601"/>
                </a:cubicBezTo>
                <a:cubicBezTo>
                  <a:pt x="8620" y="12614"/>
                  <a:pt x="8668" y="12614"/>
                  <a:pt x="8706" y="12626"/>
                </a:cubicBezTo>
                <a:cubicBezTo>
                  <a:pt x="8744" y="12638"/>
                  <a:pt x="8783" y="12593"/>
                  <a:pt x="8806" y="12626"/>
                </a:cubicBezTo>
                <a:cubicBezTo>
                  <a:pt x="8827" y="12656"/>
                  <a:pt x="8779" y="12672"/>
                  <a:pt x="8756" y="12700"/>
                </a:cubicBezTo>
                <a:cubicBezTo>
                  <a:pt x="8707" y="12761"/>
                  <a:pt x="8683" y="12848"/>
                  <a:pt x="8657" y="12923"/>
                </a:cubicBezTo>
                <a:cubicBezTo>
                  <a:pt x="8611" y="13056"/>
                  <a:pt x="8632" y="13206"/>
                  <a:pt x="8632" y="13345"/>
                </a:cubicBezTo>
                <a:cubicBezTo>
                  <a:pt x="8632" y="13511"/>
                  <a:pt x="8657" y="13677"/>
                  <a:pt x="8682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se functions are equ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(x) 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x+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(x) = 64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11120" y="2660760"/>
            <a:ext cx="1214640" cy="312480"/>
          </a:xfrm>
          <a:custGeom>
            <a:avLst/>
            <a:gdLst/>
            <a:ahLst/>
            <a:rect l="l" t="t" r="r" b="b"/>
            <a:pathLst>
              <a:path w="3374" h="869">
                <a:moveTo>
                  <a:pt x="1637" y="7590"/>
                </a:moveTo>
                <a:cubicBezTo>
                  <a:pt x="1645" y="7598"/>
                  <a:pt x="1654" y="7607"/>
                  <a:pt x="1662" y="7615"/>
                </a:cubicBezTo>
                <a:cubicBezTo>
                  <a:pt x="1662" y="7579"/>
                  <a:pt x="1655" y="7543"/>
                  <a:pt x="1637" y="7516"/>
                </a:cubicBezTo>
                <a:cubicBezTo>
                  <a:pt x="1611" y="7477"/>
                  <a:pt x="1529" y="7441"/>
                  <a:pt x="1513" y="7417"/>
                </a:cubicBezTo>
                <a:cubicBezTo>
                  <a:pt x="1503" y="7402"/>
                  <a:pt x="1478" y="7370"/>
                  <a:pt x="1439" y="7392"/>
                </a:cubicBezTo>
                <a:cubicBezTo>
                  <a:pt x="1418" y="7404"/>
                  <a:pt x="1369" y="7497"/>
                  <a:pt x="1364" y="7516"/>
                </a:cubicBezTo>
                <a:cubicBezTo>
                  <a:pt x="1319" y="7684"/>
                  <a:pt x="1352" y="7975"/>
                  <a:pt x="1389" y="8136"/>
                </a:cubicBezTo>
                <a:cubicBezTo>
                  <a:pt x="1402" y="8191"/>
                  <a:pt x="1378" y="8213"/>
                  <a:pt x="1414" y="8260"/>
                </a:cubicBezTo>
              </a:path>
              <a:path w="3374" h="869">
                <a:moveTo>
                  <a:pt x="1141" y="8037"/>
                </a:moveTo>
                <a:cubicBezTo>
                  <a:pt x="1196" y="8070"/>
                  <a:pt x="1247" y="8062"/>
                  <a:pt x="1315" y="8062"/>
                </a:cubicBezTo>
              </a:path>
              <a:path w="3374" h="869">
                <a:moveTo>
                  <a:pt x="1910" y="7640"/>
                </a:moveTo>
                <a:cubicBezTo>
                  <a:pt x="1857" y="7757"/>
                  <a:pt x="1818" y="7836"/>
                  <a:pt x="1811" y="7962"/>
                </a:cubicBezTo>
                <a:cubicBezTo>
                  <a:pt x="1807" y="8040"/>
                  <a:pt x="1817" y="8096"/>
                  <a:pt x="1836" y="8161"/>
                </a:cubicBezTo>
                <a:cubicBezTo>
                  <a:pt x="1849" y="8204"/>
                  <a:pt x="1824" y="8228"/>
                  <a:pt x="1885" y="8235"/>
                </a:cubicBezTo>
                <a:cubicBezTo>
                  <a:pt x="1915" y="8238"/>
                  <a:pt x="1915" y="8211"/>
                  <a:pt x="1935" y="8186"/>
                </a:cubicBezTo>
              </a:path>
              <a:path w="3374" h="869">
                <a:moveTo>
                  <a:pt x="2059" y="7714"/>
                </a:moveTo>
                <a:cubicBezTo>
                  <a:pt x="2105" y="7648"/>
                  <a:pt x="2119" y="7618"/>
                  <a:pt x="2183" y="7590"/>
                </a:cubicBezTo>
                <a:cubicBezTo>
                  <a:pt x="2253" y="7559"/>
                  <a:pt x="2272" y="7560"/>
                  <a:pt x="2332" y="7615"/>
                </a:cubicBezTo>
                <a:cubicBezTo>
                  <a:pt x="2381" y="7660"/>
                  <a:pt x="2381" y="7673"/>
                  <a:pt x="2381" y="7739"/>
                </a:cubicBezTo>
                <a:cubicBezTo>
                  <a:pt x="2381" y="7786"/>
                  <a:pt x="2313" y="7832"/>
                  <a:pt x="2282" y="7863"/>
                </a:cubicBezTo>
                <a:cubicBezTo>
                  <a:pt x="2254" y="7891"/>
                  <a:pt x="2218" y="7926"/>
                  <a:pt x="2183" y="7938"/>
                </a:cubicBezTo>
                <a:cubicBezTo>
                  <a:pt x="2175" y="7938"/>
                  <a:pt x="2166" y="7938"/>
                  <a:pt x="2158" y="7938"/>
                </a:cubicBezTo>
                <a:cubicBezTo>
                  <a:pt x="2222" y="7938"/>
                  <a:pt x="2272" y="7937"/>
                  <a:pt x="2332" y="7962"/>
                </a:cubicBezTo>
                <a:cubicBezTo>
                  <a:pt x="2375" y="7980"/>
                  <a:pt x="2465" y="8041"/>
                  <a:pt x="2480" y="8086"/>
                </a:cubicBezTo>
                <a:cubicBezTo>
                  <a:pt x="2500" y="8145"/>
                  <a:pt x="2468" y="8173"/>
                  <a:pt x="2431" y="8210"/>
                </a:cubicBezTo>
                <a:cubicBezTo>
                  <a:pt x="2388" y="8253"/>
                  <a:pt x="2316" y="8235"/>
                  <a:pt x="2257" y="8235"/>
                </a:cubicBezTo>
                <a:cubicBezTo>
                  <a:pt x="2193" y="8235"/>
                  <a:pt x="2133" y="8249"/>
                  <a:pt x="2084" y="8210"/>
                </a:cubicBezTo>
                <a:cubicBezTo>
                  <a:pt x="2076" y="8202"/>
                  <a:pt x="2067" y="8194"/>
                  <a:pt x="2059" y="8186"/>
                </a:cubicBezTo>
              </a:path>
              <a:path w="3374" h="869">
                <a:moveTo>
                  <a:pt x="2505" y="7441"/>
                </a:moveTo>
                <a:cubicBezTo>
                  <a:pt x="2571" y="7507"/>
                  <a:pt x="2638" y="7580"/>
                  <a:pt x="2679" y="7665"/>
                </a:cubicBezTo>
                <a:cubicBezTo>
                  <a:pt x="2720" y="7749"/>
                  <a:pt x="2750" y="7869"/>
                  <a:pt x="2729" y="7962"/>
                </a:cubicBezTo>
                <a:cubicBezTo>
                  <a:pt x="2713" y="8034"/>
                  <a:pt x="2663" y="8101"/>
                  <a:pt x="2604" y="8136"/>
                </a:cubicBezTo>
                <a:cubicBezTo>
                  <a:pt x="2558" y="8163"/>
                  <a:pt x="2503" y="8216"/>
                  <a:pt x="2456" y="8235"/>
                </a:cubicBezTo>
                <a:cubicBezTo>
                  <a:pt x="2428" y="8235"/>
                  <a:pt x="2422" y="8233"/>
                  <a:pt x="2456" y="8210"/>
                </a:cubicBezTo>
              </a:path>
              <a:path w="3374" h="869">
                <a:moveTo>
                  <a:pt x="2927" y="7764"/>
                </a:moveTo>
                <a:cubicBezTo>
                  <a:pt x="3029" y="7736"/>
                  <a:pt x="3036" y="7759"/>
                  <a:pt x="3125" y="7764"/>
                </a:cubicBezTo>
                <a:cubicBezTo>
                  <a:pt x="3177" y="7767"/>
                  <a:pt x="3182" y="7778"/>
                  <a:pt x="3225" y="7789"/>
                </a:cubicBezTo>
              </a:path>
              <a:path w="3374" h="869">
                <a:moveTo>
                  <a:pt x="2902" y="8037"/>
                </a:moveTo>
                <a:cubicBezTo>
                  <a:pt x="3041" y="8037"/>
                  <a:pt x="3161" y="8032"/>
                  <a:pt x="3299" y="8012"/>
                </a:cubicBezTo>
              </a:path>
              <a:path w="3374" h="869">
                <a:moveTo>
                  <a:pt x="3547" y="7466"/>
                </a:moveTo>
                <a:cubicBezTo>
                  <a:pt x="3623" y="7410"/>
                  <a:pt x="3650" y="7417"/>
                  <a:pt x="3746" y="7417"/>
                </a:cubicBezTo>
                <a:cubicBezTo>
                  <a:pt x="3820" y="7417"/>
                  <a:pt x="3895" y="7417"/>
                  <a:pt x="3969" y="7417"/>
                </a:cubicBezTo>
                <a:cubicBezTo>
                  <a:pt x="3956" y="7504"/>
                  <a:pt x="3931" y="7543"/>
                  <a:pt x="3894" y="7615"/>
                </a:cubicBezTo>
                <a:cubicBezTo>
                  <a:pt x="3845" y="7709"/>
                  <a:pt x="3850" y="7818"/>
                  <a:pt x="3820" y="7913"/>
                </a:cubicBezTo>
                <a:cubicBezTo>
                  <a:pt x="3800" y="7974"/>
                  <a:pt x="3817" y="8055"/>
                  <a:pt x="3795" y="8111"/>
                </a:cubicBezTo>
                <a:cubicBezTo>
                  <a:pt x="3787" y="8132"/>
                  <a:pt x="3770" y="8210"/>
                  <a:pt x="3770" y="8161"/>
                </a:cubicBezTo>
                <a:cubicBezTo>
                  <a:pt x="3770" y="8153"/>
                  <a:pt x="3770" y="8144"/>
                  <a:pt x="3770" y="8136"/>
                </a:cubicBezTo>
              </a:path>
              <a:path w="3374" h="869">
                <a:moveTo>
                  <a:pt x="4167" y="7392"/>
                </a:moveTo>
                <a:cubicBezTo>
                  <a:pt x="4159" y="7479"/>
                  <a:pt x="4144" y="7555"/>
                  <a:pt x="4118" y="7640"/>
                </a:cubicBezTo>
                <a:cubicBezTo>
                  <a:pt x="4088" y="7739"/>
                  <a:pt x="4068" y="7809"/>
                  <a:pt x="4068" y="7913"/>
                </a:cubicBezTo>
                <a:cubicBezTo>
                  <a:pt x="4068" y="7989"/>
                  <a:pt x="4066" y="8028"/>
                  <a:pt x="4118" y="8086"/>
                </a:cubicBezTo>
                <a:cubicBezTo>
                  <a:pt x="4148" y="8120"/>
                  <a:pt x="4248" y="8166"/>
                  <a:pt x="4291" y="8161"/>
                </a:cubicBezTo>
                <a:cubicBezTo>
                  <a:pt x="4335" y="8156"/>
                  <a:pt x="4433" y="8122"/>
                  <a:pt x="4465" y="8086"/>
                </a:cubicBezTo>
                <a:cubicBezTo>
                  <a:pt x="4507" y="8038"/>
                  <a:pt x="4514" y="7998"/>
                  <a:pt x="4514" y="7938"/>
                </a:cubicBezTo>
                <a:cubicBezTo>
                  <a:pt x="4514" y="7885"/>
                  <a:pt x="4482" y="7888"/>
                  <a:pt x="4440" y="7888"/>
                </a:cubicBezTo>
                <a:cubicBezTo>
                  <a:pt x="4375" y="7888"/>
                  <a:pt x="4294" y="7968"/>
                  <a:pt x="4242" y="8012"/>
                </a:cubicBezTo>
                <a:cubicBezTo>
                  <a:pt x="4189" y="8057"/>
                  <a:pt x="4142" y="8112"/>
                  <a:pt x="4093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57120" y="3429000"/>
            <a:ext cx="250920" cy="384120"/>
          </a:xfrm>
          <a:custGeom>
            <a:avLst/>
            <a:gdLst/>
            <a:ahLst/>
            <a:rect l="l" t="t" r="r" b="b"/>
            <a:pathLst>
              <a:path w="696" h="1068">
                <a:moveTo>
                  <a:pt x="1166" y="10418"/>
                </a:moveTo>
                <a:cubicBezTo>
                  <a:pt x="1166" y="10298"/>
                  <a:pt x="1178" y="10187"/>
                  <a:pt x="1191" y="10071"/>
                </a:cubicBezTo>
                <a:cubicBezTo>
                  <a:pt x="1202" y="9976"/>
                  <a:pt x="1198" y="9861"/>
                  <a:pt x="1240" y="9773"/>
                </a:cubicBezTo>
                <a:cubicBezTo>
                  <a:pt x="1257" y="9737"/>
                  <a:pt x="1305" y="9689"/>
                  <a:pt x="1315" y="9674"/>
                </a:cubicBezTo>
                <a:cubicBezTo>
                  <a:pt x="1420" y="9674"/>
                  <a:pt x="1369" y="9682"/>
                  <a:pt x="1439" y="9748"/>
                </a:cubicBezTo>
                <a:cubicBezTo>
                  <a:pt x="1495" y="9801"/>
                  <a:pt x="1532" y="9862"/>
                  <a:pt x="1588" y="9922"/>
                </a:cubicBezTo>
                <a:cubicBezTo>
                  <a:pt x="1631" y="9968"/>
                  <a:pt x="1677" y="10031"/>
                  <a:pt x="1687" y="10071"/>
                </a:cubicBezTo>
                <a:cubicBezTo>
                  <a:pt x="1687" y="10087"/>
                  <a:pt x="1687" y="10104"/>
                  <a:pt x="1687" y="10120"/>
                </a:cubicBezTo>
                <a:cubicBezTo>
                  <a:pt x="1514" y="10120"/>
                  <a:pt x="1380" y="10101"/>
                  <a:pt x="1215" y="10071"/>
                </a:cubicBezTo>
                <a:cubicBezTo>
                  <a:pt x="1181" y="10065"/>
                  <a:pt x="1129" y="10071"/>
                  <a:pt x="1091" y="10071"/>
                </a:cubicBezTo>
                <a:cubicBezTo>
                  <a:pt x="1171" y="10041"/>
                  <a:pt x="1186" y="10042"/>
                  <a:pt x="1265" y="9971"/>
                </a:cubicBezTo>
                <a:cubicBezTo>
                  <a:pt x="1355" y="9890"/>
                  <a:pt x="1407" y="9846"/>
                  <a:pt x="1488" y="9748"/>
                </a:cubicBezTo>
                <a:cubicBezTo>
                  <a:pt x="1531" y="9696"/>
                  <a:pt x="1618" y="9669"/>
                  <a:pt x="1637" y="9599"/>
                </a:cubicBezTo>
                <a:cubicBezTo>
                  <a:pt x="1637" y="9583"/>
                  <a:pt x="1637" y="9566"/>
                  <a:pt x="1637" y="9550"/>
                </a:cubicBezTo>
                <a:cubicBezTo>
                  <a:pt x="1558" y="9518"/>
                  <a:pt x="1595" y="9541"/>
                  <a:pt x="1513" y="9599"/>
                </a:cubicBezTo>
                <a:cubicBezTo>
                  <a:pt x="1420" y="9664"/>
                  <a:pt x="1365" y="9741"/>
                  <a:pt x="1315" y="9847"/>
                </a:cubicBezTo>
                <a:cubicBezTo>
                  <a:pt x="1257" y="9969"/>
                  <a:pt x="1174" y="10075"/>
                  <a:pt x="1116" y="10195"/>
                </a:cubicBezTo>
                <a:cubicBezTo>
                  <a:pt x="1068" y="10294"/>
                  <a:pt x="1051" y="10412"/>
                  <a:pt x="1017" y="10517"/>
                </a:cubicBezTo>
                <a:cubicBezTo>
                  <a:pt x="1009" y="10542"/>
                  <a:pt x="1000" y="10567"/>
                  <a:pt x="992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554040" y="3884760"/>
            <a:ext cx="5742000" cy="1544400"/>
          </a:xfrm>
          <a:custGeom>
            <a:avLst/>
            <a:gdLst/>
            <a:ahLst/>
            <a:rect l="l" t="t" r="r" b="b"/>
            <a:pathLst>
              <a:path w="15950" h="4292">
                <a:moveTo>
                  <a:pt x="1910" y="10964"/>
                </a:moveTo>
                <a:cubicBezTo>
                  <a:pt x="1910" y="10974"/>
                  <a:pt x="1910" y="11129"/>
                  <a:pt x="1910" y="11063"/>
                </a:cubicBezTo>
                <a:cubicBezTo>
                  <a:pt x="1882" y="11025"/>
                  <a:pt x="1885" y="11012"/>
                  <a:pt x="1885" y="10964"/>
                </a:cubicBezTo>
                <a:cubicBezTo>
                  <a:pt x="1885" y="10931"/>
                  <a:pt x="1843" y="10857"/>
                  <a:pt x="1811" y="10840"/>
                </a:cubicBezTo>
                <a:cubicBezTo>
                  <a:pt x="1758" y="10811"/>
                  <a:pt x="1760" y="10824"/>
                  <a:pt x="1712" y="10840"/>
                </a:cubicBezTo>
                <a:cubicBezTo>
                  <a:pt x="1677" y="10852"/>
                  <a:pt x="1661" y="10894"/>
                  <a:pt x="1637" y="10939"/>
                </a:cubicBezTo>
                <a:cubicBezTo>
                  <a:pt x="1603" y="11002"/>
                  <a:pt x="1574" y="11115"/>
                  <a:pt x="1563" y="11187"/>
                </a:cubicBezTo>
                <a:cubicBezTo>
                  <a:pt x="1545" y="11311"/>
                  <a:pt x="1538" y="11431"/>
                  <a:pt x="1538" y="11559"/>
                </a:cubicBezTo>
                <a:cubicBezTo>
                  <a:pt x="1538" y="11620"/>
                  <a:pt x="1558" y="11715"/>
                  <a:pt x="1612" y="11757"/>
                </a:cubicBezTo>
                <a:cubicBezTo>
                  <a:pt x="1637" y="11776"/>
                  <a:pt x="1700" y="11794"/>
                  <a:pt x="1736" y="11782"/>
                </a:cubicBezTo>
                <a:cubicBezTo>
                  <a:pt x="1790" y="11764"/>
                  <a:pt x="1822" y="11722"/>
                  <a:pt x="1860" y="11683"/>
                </a:cubicBezTo>
                <a:cubicBezTo>
                  <a:pt x="1913" y="11629"/>
                  <a:pt x="1875" y="11593"/>
                  <a:pt x="1860" y="11534"/>
                </a:cubicBezTo>
                <a:cubicBezTo>
                  <a:pt x="1852" y="11502"/>
                  <a:pt x="1822" y="11451"/>
                  <a:pt x="1786" y="11435"/>
                </a:cubicBezTo>
                <a:cubicBezTo>
                  <a:pt x="1762" y="11424"/>
                  <a:pt x="1738" y="11417"/>
                  <a:pt x="1712" y="11410"/>
                </a:cubicBezTo>
                <a:cubicBezTo>
                  <a:pt x="1761" y="11423"/>
                  <a:pt x="1807" y="11440"/>
                  <a:pt x="1860" y="11460"/>
                </a:cubicBezTo>
              </a:path>
              <a:path w="15950" h="4292">
                <a:moveTo>
                  <a:pt x="2356" y="10988"/>
                </a:moveTo>
                <a:cubicBezTo>
                  <a:pt x="2304" y="11049"/>
                  <a:pt x="2262" y="11111"/>
                  <a:pt x="2232" y="11187"/>
                </a:cubicBezTo>
                <a:cubicBezTo>
                  <a:pt x="2193" y="11287"/>
                  <a:pt x="2183" y="11353"/>
                  <a:pt x="2183" y="11460"/>
                </a:cubicBezTo>
                <a:cubicBezTo>
                  <a:pt x="2183" y="11565"/>
                  <a:pt x="2190" y="11636"/>
                  <a:pt x="2232" y="11733"/>
                </a:cubicBezTo>
                <a:cubicBezTo>
                  <a:pt x="2266" y="11814"/>
                  <a:pt x="2291" y="11833"/>
                  <a:pt x="2356" y="11881"/>
                </a:cubicBezTo>
                <a:cubicBezTo>
                  <a:pt x="2384" y="11909"/>
                  <a:pt x="2398" y="11918"/>
                  <a:pt x="2431" y="11906"/>
                </a:cubicBezTo>
              </a:path>
              <a:path w="15950" h="4292">
                <a:moveTo>
                  <a:pt x="2654" y="11212"/>
                </a:moveTo>
                <a:cubicBezTo>
                  <a:pt x="2721" y="11216"/>
                  <a:pt x="2834" y="11207"/>
                  <a:pt x="2877" y="11286"/>
                </a:cubicBezTo>
                <a:cubicBezTo>
                  <a:pt x="2877" y="11314"/>
                  <a:pt x="2879" y="11325"/>
                  <a:pt x="2902" y="11336"/>
                </a:cubicBezTo>
                <a:cubicBezTo>
                  <a:pt x="2858" y="11347"/>
                  <a:pt x="2829" y="11380"/>
                  <a:pt x="2778" y="11385"/>
                </a:cubicBezTo>
                <a:cubicBezTo>
                  <a:pt x="2737" y="11389"/>
                  <a:pt x="2725" y="11410"/>
                  <a:pt x="2679" y="11410"/>
                </a:cubicBezTo>
                <a:cubicBezTo>
                  <a:pt x="2693" y="11466"/>
                  <a:pt x="2736" y="11470"/>
                  <a:pt x="2778" y="11509"/>
                </a:cubicBezTo>
                <a:cubicBezTo>
                  <a:pt x="2826" y="11554"/>
                  <a:pt x="2903" y="11625"/>
                  <a:pt x="2927" y="11683"/>
                </a:cubicBezTo>
                <a:cubicBezTo>
                  <a:pt x="2949" y="11737"/>
                  <a:pt x="2902" y="11740"/>
                  <a:pt x="2877" y="11757"/>
                </a:cubicBezTo>
                <a:cubicBezTo>
                  <a:pt x="2813" y="11800"/>
                  <a:pt x="2778" y="11761"/>
                  <a:pt x="2704" y="11757"/>
                </a:cubicBezTo>
                <a:cubicBezTo>
                  <a:pt x="2631" y="11753"/>
                  <a:pt x="2605" y="11733"/>
                  <a:pt x="2555" y="11683"/>
                </a:cubicBezTo>
              </a:path>
              <a:path w="15950" h="4292">
                <a:moveTo>
                  <a:pt x="2778" y="10964"/>
                </a:moveTo>
                <a:cubicBezTo>
                  <a:pt x="2831" y="10938"/>
                  <a:pt x="2863" y="11005"/>
                  <a:pt x="2902" y="11063"/>
                </a:cubicBezTo>
                <a:cubicBezTo>
                  <a:pt x="2964" y="11156"/>
                  <a:pt x="3013" y="11255"/>
                  <a:pt x="3051" y="11361"/>
                </a:cubicBezTo>
                <a:cubicBezTo>
                  <a:pt x="3091" y="11472"/>
                  <a:pt x="3101" y="11566"/>
                  <a:pt x="3101" y="11683"/>
                </a:cubicBezTo>
                <a:cubicBezTo>
                  <a:pt x="3101" y="11770"/>
                  <a:pt x="3103" y="11832"/>
                  <a:pt x="3051" y="11906"/>
                </a:cubicBezTo>
                <a:cubicBezTo>
                  <a:pt x="3021" y="11949"/>
                  <a:pt x="2962" y="11959"/>
                  <a:pt x="2927" y="11981"/>
                </a:cubicBezTo>
                <a:cubicBezTo>
                  <a:pt x="2895" y="12001"/>
                  <a:pt x="2883" y="12007"/>
                  <a:pt x="2853" y="12030"/>
                </a:cubicBezTo>
              </a:path>
              <a:path w="15950" h="4292">
                <a:moveTo>
                  <a:pt x="3175" y="11460"/>
                </a:moveTo>
                <a:cubicBezTo>
                  <a:pt x="3183" y="11460"/>
                  <a:pt x="3192" y="11460"/>
                  <a:pt x="3200" y="11460"/>
                </a:cubicBezTo>
                <a:cubicBezTo>
                  <a:pt x="3213" y="11420"/>
                  <a:pt x="3248" y="11435"/>
                  <a:pt x="3299" y="11435"/>
                </a:cubicBezTo>
                <a:cubicBezTo>
                  <a:pt x="3364" y="11435"/>
                  <a:pt x="3362" y="11434"/>
                  <a:pt x="3423" y="11460"/>
                </a:cubicBezTo>
              </a:path>
              <a:path w="15950" h="4292">
                <a:moveTo>
                  <a:pt x="3299" y="11658"/>
                </a:moveTo>
                <a:cubicBezTo>
                  <a:pt x="3365" y="11658"/>
                  <a:pt x="3431" y="11658"/>
                  <a:pt x="3497" y="11658"/>
                </a:cubicBezTo>
              </a:path>
              <a:path w="15950" h="4292">
                <a:moveTo>
                  <a:pt x="3820" y="11187"/>
                </a:moveTo>
                <a:cubicBezTo>
                  <a:pt x="3820" y="11146"/>
                  <a:pt x="3825" y="11108"/>
                  <a:pt x="3870" y="11088"/>
                </a:cubicBezTo>
                <a:cubicBezTo>
                  <a:pt x="3905" y="11072"/>
                  <a:pt x="3918" y="11084"/>
                  <a:pt x="3969" y="11063"/>
                </a:cubicBezTo>
                <a:cubicBezTo>
                  <a:pt x="4024" y="11040"/>
                  <a:pt x="4033" y="11024"/>
                  <a:pt x="4093" y="11063"/>
                </a:cubicBezTo>
                <a:cubicBezTo>
                  <a:pt x="4195" y="11129"/>
                  <a:pt x="4183" y="11136"/>
                  <a:pt x="4217" y="11237"/>
                </a:cubicBezTo>
                <a:cubicBezTo>
                  <a:pt x="4252" y="11342"/>
                  <a:pt x="4244" y="11425"/>
                  <a:pt x="4217" y="11534"/>
                </a:cubicBezTo>
                <a:cubicBezTo>
                  <a:pt x="4193" y="11632"/>
                  <a:pt x="4169" y="11744"/>
                  <a:pt x="4118" y="11832"/>
                </a:cubicBezTo>
                <a:cubicBezTo>
                  <a:pt x="4093" y="11875"/>
                  <a:pt x="4041" y="11951"/>
                  <a:pt x="3994" y="11981"/>
                </a:cubicBezTo>
                <a:cubicBezTo>
                  <a:pt x="3947" y="12011"/>
                  <a:pt x="3896" y="12016"/>
                  <a:pt x="3870" y="11956"/>
                </a:cubicBezTo>
                <a:cubicBezTo>
                  <a:pt x="3861" y="11935"/>
                  <a:pt x="3829" y="11885"/>
                  <a:pt x="3845" y="11857"/>
                </a:cubicBezTo>
                <a:cubicBezTo>
                  <a:pt x="3865" y="11822"/>
                  <a:pt x="3901" y="11796"/>
                  <a:pt x="3919" y="11782"/>
                </a:cubicBezTo>
                <a:cubicBezTo>
                  <a:pt x="3961" y="11750"/>
                  <a:pt x="4005" y="11773"/>
                  <a:pt x="4043" y="11807"/>
                </a:cubicBezTo>
                <a:cubicBezTo>
                  <a:pt x="4088" y="11847"/>
                  <a:pt x="4131" y="11923"/>
                  <a:pt x="4142" y="11981"/>
                </a:cubicBezTo>
                <a:cubicBezTo>
                  <a:pt x="4152" y="12030"/>
                  <a:pt x="4167" y="12055"/>
                  <a:pt x="4167" y="12105"/>
                </a:cubicBezTo>
                <a:cubicBezTo>
                  <a:pt x="4167" y="12164"/>
                  <a:pt x="4192" y="12112"/>
                  <a:pt x="4192" y="12080"/>
                </a:cubicBezTo>
              </a:path>
              <a:path w="15950" h="4292">
                <a:moveTo>
                  <a:pt x="4316" y="10964"/>
                </a:moveTo>
                <a:cubicBezTo>
                  <a:pt x="4316" y="11035"/>
                  <a:pt x="4300" y="11108"/>
                  <a:pt x="4341" y="11162"/>
                </a:cubicBezTo>
              </a:path>
              <a:path w="15950" h="4292">
                <a:moveTo>
                  <a:pt x="4390" y="10815"/>
                </a:moveTo>
                <a:cubicBezTo>
                  <a:pt x="4428" y="10786"/>
                  <a:pt x="4441" y="10790"/>
                  <a:pt x="4490" y="10790"/>
                </a:cubicBezTo>
                <a:cubicBezTo>
                  <a:pt x="4531" y="10790"/>
                  <a:pt x="4569" y="10796"/>
                  <a:pt x="4589" y="10840"/>
                </a:cubicBezTo>
                <a:cubicBezTo>
                  <a:pt x="4608" y="10881"/>
                  <a:pt x="4574" y="10910"/>
                  <a:pt x="4564" y="10939"/>
                </a:cubicBezTo>
                <a:cubicBezTo>
                  <a:pt x="4556" y="10964"/>
                  <a:pt x="4532" y="10985"/>
                  <a:pt x="4514" y="11013"/>
                </a:cubicBezTo>
                <a:cubicBezTo>
                  <a:pt x="4489" y="11052"/>
                  <a:pt x="4490" y="11064"/>
                  <a:pt x="4490" y="11112"/>
                </a:cubicBezTo>
                <a:cubicBezTo>
                  <a:pt x="4558" y="11112"/>
                  <a:pt x="4621" y="11133"/>
                  <a:pt x="4688" y="11137"/>
                </a:cubicBezTo>
                <a:cubicBezTo>
                  <a:pt x="4729" y="11137"/>
                  <a:pt x="4737" y="11137"/>
                  <a:pt x="4762" y="11137"/>
                </a:cubicBezTo>
              </a:path>
              <a:path w="15950" h="4292">
                <a:moveTo>
                  <a:pt x="4713" y="11509"/>
                </a:moveTo>
                <a:cubicBezTo>
                  <a:pt x="4804" y="11509"/>
                  <a:pt x="4877" y="11519"/>
                  <a:pt x="4961" y="11534"/>
                </a:cubicBezTo>
                <a:cubicBezTo>
                  <a:pt x="5006" y="11534"/>
                  <a:pt x="5019" y="11530"/>
                  <a:pt x="5035" y="11559"/>
                </a:cubicBezTo>
              </a:path>
              <a:path w="15950" h="4292">
                <a:moveTo>
                  <a:pt x="4837" y="11658"/>
                </a:moveTo>
                <a:cubicBezTo>
                  <a:pt x="4882" y="11703"/>
                  <a:pt x="4916" y="11697"/>
                  <a:pt x="4961" y="11733"/>
                </a:cubicBezTo>
                <a:cubicBezTo>
                  <a:pt x="4969" y="11741"/>
                  <a:pt x="4978" y="11749"/>
                  <a:pt x="4986" y="11757"/>
                </a:cubicBezTo>
              </a:path>
              <a:path w="15950" h="4292">
                <a:moveTo>
                  <a:pt x="5556" y="11212"/>
                </a:moveTo>
                <a:cubicBezTo>
                  <a:pt x="5547" y="11275"/>
                  <a:pt x="5522" y="11320"/>
                  <a:pt x="5507" y="11385"/>
                </a:cubicBezTo>
                <a:cubicBezTo>
                  <a:pt x="5497" y="11430"/>
                  <a:pt x="5482" y="11455"/>
                  <a:pt x="5482" y="11509"/>
                </a:cubicBezTo>
                <a:cubicBezTo>
                  <a:pt x="5482" y="11574"/>
                  <a:pt x="5496" y="11636"/>
                  <a:pt x="5556" y="11658"/>
                </a:cubicBezTo>
                <a:cubicBezTo>
                  <a:pt x="5615" y="11680"/>
                  <a:pt x="5678" y="11664"/>
                  <a:pt x="5730" y="11658"/>
                </a:cubicBezTo>
                <a:cubicBezTo>
                  <a:pt x="5812" y="11649"/>
                  <a:pt x="5831" y="11650"/>
                  <a:pt x="5904" y="11609"/>
                </a:cubicBezTo>
              </a:path>
              <a:path w="15950" h="4292">
                <a:moveTo>
                  <a:pt x="5928" y="11088"/>
                </a:moveTo>
                <a:cubicBezTo>
                  <a:pt x="5911" y="11099"/>
                  <a:pt x="5862" y="11194"/>
                  <a:pt x="5854" y="11237"/>
                </a:cubicBezTo>
                <a:cubicBezTo>
                  <a:pt x="5835" y="11344"/>
                  <a:pt x="5829" y="11448"/>
                  <a:pt x="5829" y="11559"/>
                </a:cubicBezTo>
                <a:cubicBezTo>
                  <a:pt x="5829" y="11728"/>
                  <a:pt x="5827" y="11894"/>
                  <a:pt x="5854" y="12055"/>
                </a:cubicBezTo>
                <a:cubicBezTo>
                  <a:pt x="5867" y="12132"/>
                  <a:pt x="5836" y="12146"/>
                  <a:pt x="5879" y="12055"/>
                </a:cubicBezTo>
                <a:cubicBezTo>
                  <a:pt x="5887" y="12038"/>
                  <a:pt x="5896" y="12022"/>
                  <a:pt x="5904" y="12005"/>
                </a:cubicBezTo>
              </a:path>
              <a:path w="15950" h="4292">
                <a:moveTo>
                  <a:pt x="6226" y="11237"/>
                </a:moveTo>
                <a:cubicBezTo>
                  <a:pt x="6192" y="11293"/>
                  <a:pt x="6197" y="11366"/>
                  <a:pt x="6176" y="11435"/>
                </a:cubicBezTo>
                <a:cubicBezTo>
                  <a:pt x="6142" y="11547"/>
                  <a:pt x="6115" y="11690"/>
                  <a:pt x="6127" y="11807"/>
                </a:cubicBezTo>
                <a:cubicBezTo>
                  <a:pt x="6138" y="11913"/>
                  <a:pt x="6162" y="12002"/>
                  <a:pt x="6251" y="12055"/>
                </a:cubicBezTo>
                <a:cubicBezTo>
                  <a:pt x="6309" y="12089"/>
                  <a:pt x="6379" y="12125"/>
                  <a:pt x="6449" y="12105"/>
                </a:cubicBezTo>
                <a:cubicBezTo>
                  <a:pt x="6553" y="12076"/>
                  <a:pt x="6560" y="12020"/>
                  <a:pt x="6598" y="11931"/>
                </a:cubicBezTo>
                <a:cubicBezTo>
                  <a:pt x="6640" y="11832"/>
                  <a:pt x="6648" y="11765"/>
                  <a:pt x="6648" y="11658"/>
                </a:cubicBezTo>
                <a:cubicBezTo>
                  <a:pt x="6648" y="11538"/>
                  <a:pt x="6603" y="11463"/>
                  <a:pt x="6548" y="11361"/>
                </a:cubicBezTo>
                <a:cubicBezTo>
                  <a:pt x="6502" y="11276"/>
                  <a:pt x="6475" y="11245"/>
                  <a:pt x="6400" y="11187"/>
                </a:cubicBezTo>
                <a:cubicBezTo>
                  <a:pt x="6353" y="11150"/>
                  <a:pt x="6303" y="11152"/>
                  <a:pt x="6251" y="11187"/>
                </a:cubicBezTo>
                <a:cubicBezTo>
                  <a:pt x="6202" y="11220"/>
                  <a:pt x="6224" y="11296"/>
                  <a:pt x="6251" y="11336"/>
                </a:cubicBezTo>
                <a:cubicBezTo>
                  <a:pt x="6276" y="11369"/>
                  <a:pt x="6300" y="11402"/>
                  <a:pt x="6325" y="11435"/>
                </a:cubicBezTo>
              </a:path>
              <a:path w="15950" h="4292">
                <a:moveTo>
                  <a:pt x="7169" y="11187"/>
                </a:moveTo>
                <a:cubicBezTo>
                  <a:pt x="7041" y="11175"/>
                  <a:pt x="6954" y="11154"/>
                  <a:pt x="6846" y="11237"/>
                </a:cubicBezTo>
                <a:cubicBezTo>
                  <a:pt x="6777" y="11290"/>
                  <a:pt x="6729" y="11369"/>
                  <a:pt x="6747" y="11460"/>
                </a:cubicBezTo>
                <a:cubicBezTo>
                  <a:pt x="6766" y="11554"/>
                  <a:pt x="6829" y="11563"/>
                  <a:pt x="6896" y="11609"/>
                </a:cubicBezTo>
                <a:cubicBezTo>
                  <a:pt x="6963" y="11654"/>
                  <a:pt x="6988" y="11637"/>
                  <a:pt x="7045" y="11584"/>
                </a:cubicBezTo>
                <a:cubicBezTo>
                  <a:pt x="7095" y="11538"/>
                  <a:pt x="7115" y="11474"/>
                  <a:pt x="7119" y="11410"/>
                </a:cubicBezTo>
                <a:cubicBezTo>
                  <a:pt x="7122" y="11361"/>
                  <a:pt x="7119" y="11310"/>
                  <a:pt x="7119" y="11261"/>
                </a:cubicBezTo>
                <a:cubicBezTo>
                  <a:pt x="7076" y="11318"/>
                  <a:pt x="7085" y="11364"/>
                  <a:pt x="7069" y="11435"/>
                </a:cubicBezTo>
                <a:cubicBezTo>
                  <a:pt x="7048" y="11528"/>
                  <a:pt x="7027" y="11635"/>
                  <a:pt x="7045" y="11733"/>
                </a:cubicBezTo>
                <a:cubicBezTo>
                  <a:pt x="7059" y="11811"/>
                  <a:pt x="7088" y="11878"/>
                  <a:pt x="7094" y="11956"/>
                </a:cubicBezTo>
                <a:cubicBezTo>
                  <a:pt x="7098" y="12004"/>
                  <a:pt x="7094" y="12063"/>
                  <a:pt x="7094" y="11981"/>
                </a:cubicBezTo>
              </a:path>
              <a:path w="15950" h="4292">
                <a:moveTo>
                  <a:pt x="7392" y="11385"/>
                </a:moveTo>
                <a:cubicBezTo>
                  <a:pt x="7443" y="11334"/>
                  <a:pt x="7459" y="11300"/>
                  <a:pt x="7516" y="11286"/>
                </a:cubicBezTo>
                <a:cubicBezTo>
                  <a:pt x="7458" y="11359"/>
                  <a:pt x="7460" y="11399"/>
                  <a:pt x="7441" y="11485"/>
                </a:cubicBezTo>
                <a:cubicBezTo>
                  <a:pt x="7418" y="11585"/>
                  <a:pt x="7374" y="11609"/>
                  <a:pt x="7417" y="11708"/>
                </a:cubicBezTo>
                <a:cubicBezTo>
                  <a:pt x="7449" y="11781"/>
                  <a:pt x="7507" y="11851"/>
                  <a:pt x="7590" y="11857"/>
                </a:cubicBezTo>
                <a:cubicBezTo>
                  <a:pt x="7656" y="11861"/>
                  <a:pt x="7689" y="11852"/>
                  <a:pt x="7739" y="11807"/>
                </a:cubicBezTo>
                <a:cubicBezTo>
                  <a:pt x="7778" y="11772"/>
                  <a:pt x="7789" y="11759"/>
                  <a:pt x="7789" y="11708"/>
                </a:cubicBezTo>
                <a:cubicBezTo>
                  <a:pt x="7789" y="11639"/>
                  <a:pt x="7690" y="11646"/>
                  <a:pt x="7640" y="11658"/>
                </a:cubicBezTo>
                <a:cubicBezTo>
                  <a:pt x="7552" y="11679"/>
                  <a:pt x="7438" y="11728"/>
                  <a:pt x="7367" y="11782"/>
                </a:cubicBezTo>
                <a:cubicBezTo>
                  <a:pt x="7245" y="11884"/>
                  <a:pt x="7214" y="11896"/>
                  <a:pt x="7169" y="11981"/>
                </a:cubicBezTo>
              </a:path>
              <a:path w="15950" h="4292">
                <a:moveTo>
                  <a:pt x="9674" y="13494"/>
                </a:moveTo>
                <a:cubicBezTo>
                  <a:pt x="9753" y="13487"/>
                  <a:pt x="9816" y="13469"/>
                  <a:pt x="9897" y="13469"/>
                </a:cubicBezTo>
                <a:cubicBezTo>
                  <a:pt x="9948" y="13469"/>
                  <a:pt x="9983" y="13484"/>
                  <a:pt x="9996" y="13444"/>
                </a:cubicBezTo>
                <a:cubicBezTo>
                  <a:pt x="9966" y="13452"/>
                  <a:pt x="9952" y="13461"/>
                  <a:pt x="9922" y="13469"/>
                </a:cubicBezTo>
              </a:path>
              <a:path w="15950" h="4292">
                <a:moveTo>
                  <a:pt x="9550" y="13767"/>
                </a:moveTo>
                <a:cubicBezTo>
                  <a:pt x="9657" y="13782"/>
                  <a:pt x="9794" y="13783"/>
                  <a:pt x="9897" y="13816"/>
                </a:cubicBezTo>
                <a:cubicBezTo>
                  <a:pt x="9914" y="13824"/>
                  <a:pt x="9930" y="13833"/>
                  <a:pt x="9947" y="13841"/>
                </a:cubicBezTo>
              </a:path>
              <a:path w="15950" h="4292">
                <a:moveTo>
                  <a:pt x="6325" y="12923"/>
                </a:moveTo>
                <a:cubicBezTo>
                  <a:pt x="6341" y="12907"/>
                  <a:pt x="6371" y="12878"/>
                  <a:pt x="6400" y="12849"/>
                </a:cubicBezTo>
                <a:cubicBezTo>
                  <a:pt x="6519" y="12730"/>
                  <a:pt x="6602" y="12694"/>
                  <a:pt x="6747" y="12626"/>
                </a:cubicBezTo>
                <a:cubicBezTo>
                  <a:pt x="6903" y="12553"/>
                  <a:pt x="7073" y="12506"/>
                  <a:pt x="7243" y="12477"/>
                </a:cubicBezTo>
                <a:cubicBezTo>
                  <a:pt x="7486" y="12435"/>
                  <a:pt x="7716" y="12427"/>
                  <a:pt x="7962" y="12427"/>
                </a:cubicBezTo>
                <a:cubicBezTo>
                  <a:pt x="8242" y="12427"/>
                  <a:pt x="8530" y="12453"/>
                  <a:pt x="8806" y="12502"/>
                </a:cubicBezTo>
                <a:cubicBezTo>
                  <a:pt x="9130" y="12560"/>
                  <a:pt x="9414" y="12719"/>
                  <a:pt x="9723" y="12824"/>
                </a:cubicBezTo>
                <a:cubicBezTo>
                  <a:pt x="9840" y="12864"/>
                  <a:pt x="9953" y="12908"/>
                  <a:pt x="10071" y="12948"/>
                </a:cubicBezTo>
                <a:cubicBezTo>
                  <a:pt x="10088" y="12954"/>
                  <a:pt x="10196" y="13001"/>
                  <a:pt x="10220" y="12973"/>
                </a:cubicBezTo>
                <a:cubicBezTo>
                  <a:pt x="10231" y="12961"/>
                  <a:pt x="10215" y="12914"/>
                  <a:pt x="10220" y="12898"/>
                </a:cubicBezTo>
              </a:path>
              <a:path w="15950" h="4292">
                <a:moveTo>
                  <a:pt x="10071" y="12626"/>
                </a:moveTo>
                <a:cubicBezTo>
                  <a:pt x="10071" y="12609"/>
                  <a:pt x="10071" y="12593"/>
                  <a:pt x="10071" y="12576"/>
                </a:cubicBezTo>
                <a:cubicBezTo>
                  <a:pt x="10086" y="12636"/>
                  <a:pt x="10149" y="12679"/>
                  <a:pt x="10195" y="12725"/>
                </a:cubicBezTo>
                <a:cubicBezTo>
                  <a:pt x="10276" y="12806"/>
                  <a:pt x="10345" y="12888"/>
                  <a:pt x="10418" y="12973"/>
                </a:cubicBezTo>
                <a:cubicBezTo>
                  <a:pt x="10458" y="13019"/>
                  <a:pt x="10480" y="13021"/>
                  <a:pt x="10492" y="13072"/>
                </a:cubicBezTo>
                <a:cubicBezTo>
                  <a:pt x="10462" y="13095"/>
                  <a:pt x="10431" y="13119"/>
                  <a:pt x="10393" y="13122"/>
                </a:cubicBezTo>
                <a:cubicBezTo>
                  <a:pt x="10345" y="13126"/>
                  <a:pt x="10221" y="13095"/>
                  <a:pt x="10195" y="13146"/>
                </a:cubicBezTo>
                <a:cubicBezTo>
                  <a:pt x="10195" y="13174"/>
                  <a:pt x="10193" y="13185"/>
                  <a:pt x="10170" y="13196"/>
                </a:cubicBezTo>
              </a:path>
              <a:path w="15950" h="4292">
                <a:moveTo>
                  <a:pt x="10443" y="13643"/>
                </a:moveTo>
                <a:cubicBezTo>
                  <a:pt x="10494" y="13643"/>
                  <a:pt x="10501" y="13642"/>
                  <a:pt x="10542" y="13618"/>
                </a:cubicBezTo>
                <a:cubicBezTo>
                  <a:pt x="10598" y="13586"/>
                  <a:pt x="10641" y="13567"/>
                  <a:pt x="10691" y="13543"/>
                </a:cubicBezTo>
                <a:cubicBezTo>
                  <a:pt x="10726" y="13526"/>
                  <a:pt x="10776" y="13464"/>
                  <a:pt x="10815" y="13469"/>
                </a:cubicBezTo>
                <a:cubicBezTo>
                  <a:pt x="10893" y="13480"/>
                  <a:pt x="10939" y="13548"/>
                  <a:pt x="10964" y="13618"/>
                </a:cubicBezTo>
                <a:cubicBezTo>
                  <a:pt x="10985" y="13677"/>
                  <a:pt x="10961" y="13763"/>
                  <a:pt x="10939" y="13816"/>
                </a:cubicBezTo>
                <a:cubicBezTo>
                  <a:pt x="10904" y="13899"/>
                  <a:pt x="10854" y="13952"/>
                  <a:pt x="10790" y="14015"/>
                </a:cubicBezTo>
                <a:cubicBezTo>
                  <a:pt x="10734" y="14071"/>
                  <a:pt x="10641" y="14106"/>
                  <a:pt x="10592" y="14163"/>
                </a:cubicBezTo>
                <a:cubicBezTo>
                  <a:pt x="10559" y="14201"/>
                  <a:pt x="10542" y="14240"/>
                  <a:pt x="10542" y="14288"/>
                </a:cubicBezTo>
                <a:cubicBezTo>
                  <a:pt x="10542" y="14312"/>
                  <a:pt x="10542" y="14321"/>
                  <a:pt x="10542" y="14337"/>
                </a:cubicBezTo>
                <a:cubicBezTo>
                  <a:pt x="10607" y="14337"/>
                  <a:pt x="10653" y="14359"/>
                  <a:pt x="10716" y="14362"/>
                </a:cubicBezTo>
                <a:cubicBezTo>
                  <a:pt x="10810" y="14366"/>
                  <a:pt x="10984" y="14394"/>
                  <a:pt x="11063" y="14337"/>
                </a:cubicBezTo>
                <a:cubicBezTo>
                  <a:pt x="11079" y="14321"/>
                  <a:pt x="11096" y="14304"/>
                  <a:pt x="11112" y="14288"/>
                </a:cubicBezTo>
              </a:path>
              <a:path w="15950" h="4292">
                <a:moveTo>
                  <a:pt x="11435" y="13221"/>
                </a:moveTo>
                <a:cubicBezTo>
                  <a:pt x="11322" y="13232"/>
                  <a:pt x="11331" y="13260"/>
                  <a:pt x="11261" y="13345"/>
                </a:cubicBezTo>
                <a:cubicBezTo>
                  <a:pt x="11193" y="13427"/>
                  <a:pt x="11165" y="13462"/>
                  <a:pt x="11212" y="13568"/>
                </a:cubicBezTo>
                <a:cubicBezTo>
                  <a:pt x="11257" y="13668"/>
                  <a:pt x="11285" y="13763"/>
                  <a:pt x="11385" y="13816"/>
                </a:cubicBezTo>
                <a:cubicBezTo>
                  <a:pt x="11431" y="13841"/>
                  <a:pt x="11470" y="13851"/>
                  <a:pt x="11509" y="13816"/>
                </a:cubicBezTo>
                <a:cubicBezTo>
                  <a:pt x="11556" y="13774"/>
                  <a:pt x="11593" y="13702"/>
                  <a:pt x="11609" y="13643"/>
                </a:cubicBezTo>
                <a:cubicBezTo>
                  <a:pt x="11619" y="13605"/>
                  <a:pt x="11582" y="13544"/>
                  <a:pt x="11559" y="13519"/>
                </a:cubicBezTo>
                <a:cubicBezTo>
                  <a:pt x="11537" y="13495"/>
                  <a:pt x="11468" y="13476"/>
                  <a:pt x="11435" y="13494"/>
                </a:cubicBezTo>
                <a:cubicBezTo>
                  <a:pt x="11385" y="13522"/>
                  <a:pt x="11363" y="13566"/>
                  <a:pt x="11361" y="13618"/>
                </a:cubicBezTo>
                <a:cubicBezTo>
                  <a:pt x="11358" y="13699"/>
                  <a:pt x="11376" y="13742"/>
                  <a:pt x="11385" y="13816"/>
                </a:cubicBezTo>
              </a:path>
              <a:path w="15950" h="4292">
                <a:moveTo>
                  <a:pt x="12005" y="14089"/>
                </a:moveTo>
                <a:cubicBezTo>
                  <a:pt x="11997" y="14089"/>
                  <a:pt x="11989" y="14089"/>
                  <a:pt x="11981" y="14089"/>
                </a:cubicBezTo>
              </a:path>
              <a:path w="15950" h="4292">
                <a:moveTo>
                  <a:pt x="12452" y="13519"/>
                </a:moveTo>
                <a:cubicBezTo>
                  <a:pt x="12484" y="13487"/>
                  <a:pt x="12523" y="13466"/>
                  <a:pt x="12551" y="13444"/>
                </a:cubicBezTo>
                <a:cubicBezTo>
                  <a:pt x="12561" y="13436"/>
                  <a:pt x="12590" y="13406"/>
                  <a:pt x="12601" y="13395"/>
                </a:cubicBezTo>
                <a:cubicBezTo>
                  <a:pt x="12642" y="13355"/>
                  <a:pt x="12660" y="13355"/>
                  <a:pt x="12700" y="13370"/>
                </a:cubicBezTo>
                <a:cubicBezTo>
                  <a:pt x="12762" y="13393"/>
                  <a:pt x="12806" y="13408"/>
                  <a:pt x="12849" y="13469"/>
                </a:cubicBezTo>
                <a:cubicBezTo>
                  <a:pt x="12911" y="13556"/>
                  <a:pt x="12903" y="13647"/>
                  <a:pt x="12923" y="13742"/>
                </a:cubicBezTo>
                <a:cubicBezTo>
                  <a:pt x="12948" y="13862"/>
                  <a:pt x="12929" y="13991"/>
                  <a:pt x="12898" y="14114"/>
                </a:cubicBezTo>
                <a:cubicBezTo>
                  <a:pt x="12862" y="14254"/>
                  <a:pt x="12774" y="14370"/>
                  <a:pt x="12700" y="14486"/>
                </a:cubicBezTo>
                <a:cubicBezTo>
                  <a:pt x="12658" y="14552"/>
                  <a:pt x="12609" y="14586"/>
                  <a:pt x="12551" y="14635"/>
                </a:cubicBezTo>
                <a:cubicBezTo>
                  <a:pt x="12526" y="14635"/>
                  <a:pt x="12518" y="14635"/>
                  <a:pt x="12526" y="14660"/>
                </a:cubicBezTo>
                <a:cubicBezTo>
                  <a:pt x="12474" y="14607"/>
                  <a:pt x="12477" y="14586"/>
                  <a:pt x="12477" y="14511"/>
                </a:cubicBezTo>
                <a:cubicBezTo>
                  <a:pt x="12477" y="14446"/>
                  <a:pt x="12500" y="14372"/>
                  <a:pt x="12526" y="14312"/>
                </a:cubicBezTo>
                <a:cubicBezTo>
                  <a:pt x="12551" y="14256"/>
                  <a:pt x="12583" y="14231"/>
                  <a:pt x="12626" y="14188"/>
                </a:cubicBezTo>
                <a:cubicBezTo>
                  <a:pt x="12677" y="14221"/>
                  <a:pt x="12715" y="14249"/>
                  <a:pt x="12750" y="14312"/>
                </a:cubicBezTo>
                <a:cubicBezTo>
                  <a:pt x="12794" y="14393"/>
                  <a:pt x="12831" y="14478"/>
                  <a:pt x="12874" y="14560"/>
                </a:cubicBezTo>
                <a:cubicBezTo>
                  <a:pt x="12913" y="14636"/>
                  <a:pt x="12899" y="14646"/>
                  <a:pt x="12948" y="14585"/>
                </a:cubicBezTo>
              </a:path>
              <a:path w="15950" h="4292">
                <a:moveTo>
                  <a:pt x="13047" y="13345"/>
                </a:moveTo>
                <a:cubicBezTo>
                  <a:pt x="13076" y="13335"/>
                  <a:pt x="13090" y="13303"/>
                  <a:pt x="13122" y="13271"/>
                </a:cubicBezTo>
                <a:cubicBezTo>
                  <a:pt x="13147" y="13245"/>
                  <a:pt x="13186" y="13225"/>
                  <a:pt x="13221" y="13221"/>
                </a:cubicBezTo>
                <a:cubicBezTo>
                  <a:pt x="13264" y="13216"/>
                  <a:pt x="13278" y="13265"/>
                  <a:pt x="13295" y="13295"/>
                </a:cubicBezTo>
                <a:cubicBezTo>
                  <a:pt x="13344" y="13381"/>
                  <a:pt x="13309" y="13436"/>
                  <a:pt x="13295" y="13519"/>
                </a:cubicBezTo>
                <a:cubicBezTo>
                  <a:pt x="13284" y="13584"/>
                  <a:pt x="13269" y="13619"/>
                  <a:pt x="13196" y="13643"/>
                </a:cubicBezTo>
                <a:cubicBezTo>
                  <a:pt x="13138" y="13662"/>
                  <a:pt x="13151" y="13657"/>
                  <a:pt x="13122" y="13643"/>
                </a:cubicBezTo>
                <a:cubicBezTo>
                  <a:pt x="13097" y="13643"/>
                  <a:pt x="13089" y="13643"/>
                  <a:pt x="13097" y="13618"/>
                </a:cubicBezTo>
                <a:cubicBezTo>
                  <a:pt x="13111" y="13577"/>
                  <a:pt x="13153" y="13567"/>
                  <a:pt x="13196" y="13593"/>
                </a:cubicBezTo>
                <a:cubicBezTo>
                  <a:pt x="13257" y="13630"/>
                  <a:pt x="13296" y="13668"/>
                  <a:pt x="13345" y="13717"/>
                </a:cubicBezTo>
              </a:path>
              <a:path w="15950" h="4292">
                <a:moveTo>
                  <a:pt x="12402" y="13047"/>
                </a:moveTo>
                <a:cubicBezTo>
                  <a:pt x="12296" y="13222"/>
                  <a:pt x="12234" y="13342"/>
                  <a:pt x="12179" y="13543"/>
                </a:cubicBezTo>
                <a:cubicBezTo>
                  <a:pt x="12134" y="13707"/>
                  <a:pt x="12151" y="13873"/>
                  <a:pt x="12179" y="14039"/>
                </a:cubicBezTo>
                <a:cubicBezTo>
                  <a:pt x="12207" y="14208"/>
                  <a:pt x="12275" y="14397"/>
                  <a:pt x="12378" y="14536"/>
                </a:cubicBezTo>
                <a:cubicBezTo>
                  <a:pt x="12456" y="14614"/>
                  <a:pt x="12486" y="14643"/>
                  <a:pt x="12551" y="14684"/>
                </a:cubicBezTo>
              </a:path>
              <a:path w="15950" h="4292">
                <a:moveTo>
                  <a:pt x="13345" y="13295"/>
                </a:moveTo>
                <a:cubicBezTo>
                  <a:pt x="13428" y="13484"/>
                  <a:pt x="13484" y="13638"/>
                  <a:pt x="13519" y="13841"/>
                </a:cubicBezTo>
                <a:cubicBezTo>
                  <a:pt x="13551" y="14024"/>
                  <a:pt x="13609" y="14226"/>
                  <a:pt x="13593" y="14412"/>
                </a:cubicBezTo>
                <a:cubicBezTo>
                  <a:pt x="13581" y="14551"/>
                  <a:pt x="13557" y="14663"/>
                  <a:pt x="13494" y="14784"/>
                </a:cubicBezTo>
                <a:cubicBezTo>
                  <a:pt x="13473" y="14825"/>
                  <a:pt x="13421" y="14887"/>
                  <a:pt x="13370" y="14883"/>
                </a:cubicBezTo>
                <a:cubicBezTo>
                  <a:pt x="13341" y="14881"/>
                  <a:pt x="13304" y="14799"/>
                  <a:pt x="13295" y="14784"/>
                </a:cubicBezTo>
              </a:path>
              <a:path w="15950" h="4292">
                <a:moveTo>
                  <a:pt x="13593" y="13072"/>
                </a:moveTo>
                <a:cubicBezTo>
                  <a:pt x="13656" y="13126"/>
                  <a:pt x="13720" y="13214"/>
                  <a:pt x="13767" y="13295"/>
                </a:cubicBezTo>
                <a:cubicBezTo>
                  <a:pt x="13822" y="13391"/>
                  <a:pt x="13882" y="13476"/>
                  <a:pt x="13940" y="13568"/>
                </a:cubicBezTo>
              </a:path>
              <a:path w="15950" h="4292">
                <a:moveTo>
                  <a:pt x="13891" y="13171"/>
                </a:moveTo>
                <a:cubicBezTo>
                  <a:pt x="13778" y="13261"/>
                  <a:pt x="13662" y="13357"/>
                  <a:pt x="13568" y="13469"/>
                </a:cubicBezTo>
                <a:cubicBezTo>
                  <a:pt x="13543" y="13502"/>
                  <a:pt x="13519" y="13535"/>
                  <a:pt x="13494" y="13568"/>
                </a:cubicBezTo>
              </a:path>
              <a:path w="15950" h="4292">
                <a:moveTo>
                  <a:pt x="14015" y="13990"/>
                </a:moveTo>
                <a:cubicBezTo>
                  <a:pt x="14109" y="13990"/>
                  <a:pt x="14195" y="14011"/>
                  <a:pt x="14288" y="14015"/>
                </a:cubicBezTo>
                <a:cubicBezTo>
                  <a:pt x="14348" y="14018"/>
                  <a:pt x="14391" y="14025"/>
                  <a:pt x="14436" y="13990"/>
                </a:cubicBezTo>
                <a:cubicBezTo>
                  <a:pt x="14418" y="13935"/>
                  <a:pt x="14361" y="13973"/>
                  <a:pt x="14312" y="13990"/>
                </a:cubicBezTo>
                <a:cubicBezTo>
                  <a:pt x="14227" y="14020"/>
                  <a:pt x="14183" y="14035"/>
                  <a:pt x="14114" y="14089"/>
                </a:cubicBezTo>
              </a:path>
              <a:path w="15950" h="4292">
                <a:moveTo>
                  <a:pt x="14039" y="14238"/>
                </a:moveTo>
                <a:cubicBezTo>
                  <a:pt x="14177" y="14278"/>
                  <a:pt x="14165" y="14280"/>
                  <a:pt x="14312" y="14263"/>
                </a:cubicBezTo>
              </a:path>
              <a:path w="15950" h="4292">
                <a:moveTo>
                  <a:pt x="14635" y="13767"/>
                </a:moveTo>
                <a:cubicBezTo>
                  <a:pt x="14729" y="13706"/>
                  <a:pt x="14812" y="13618"/>
                  <a:pt x="14932" y="13643"/>
                </a:cubicBezTo>
                <a:cubicBezTo>
                  <a:pt x="15031" y="13664"/>
                  <a:pt x="15111" y="13711"/>
                  <a:pt x="15131" y="13816"/>
                </a:cubicBezTo>
                <a:cubicBezTo>
                  <a:pt x="15157" y="13953"/>
                  <a:pt x="15140" y="14053"/>
                  <a:pt x="15106" y="14188"/>
                </a:cubicBezTo>
                <a:cubicBezTo>
                  <a:pt x="15064" y="14355"/>
                  <a:pt x="15025" y="14506"/>
                  <a:pt x="14908" y="14635"/>
                </a:cubicBezTo>
                <a:cubicBezTo>
                  <a:pt x="14863" y="14684"/>
                  <a:pt x="14839" y="14736"/>
                  <a:pt x="14784" y="14759"/>
                </a:cubicBezTo>
                <a:cubicBezTo>
                  <a:pt x="14776" y="14759"/>
                  <a:pt x="14767" y="14759"/>
                  <a:pt x="14759" y="14759"/>
                </a:cubicBezTo>
                <a:cubicBezTo>
                  <a:pt x="14750" y="14745"/>
                  <a:pt x="14716" y="14696"/>
                  <a:pt x="14709" y="14660"/>
                </a:cubicBezTo>
                <a:cubicBezTo>
                  <a:pt x="14704" y="14635"/>
                  <a:pt x="14727" y="14544"/>
                  <a:pt x="14759" y="14536"/>
                </a:cubicBezTo>
                <a:cubicBezTo>
                  <a:pt x="14832" y="14517"/>
                  <a:pt x="14862" y="14563"/>
                  <a:pt x="14908" y="14610"/>
                </a:cubicBezTo>
                <a:cubicBezTo>
                  <a:pt x="14979" y="14682"/>
                  <a:pt x="15016" y="14759"/>
                  <a:pt x="15106" y="14808"/>
                </a:cubicBezTo>
                <a:cubicBezTo>
                  <a:pt x="15195" y="14857"/>
                  <a:pt x="15195" y="14802"/>
                  <a:pt x="15255" y="14734"/>
                </a:cubicBezTo>
              </a:path>
              <a:path w="15950" h="4292">
                <a:moveTo>
                  <a:pt x="15453" y="13395"/>
                </a:moveTo>
                <a:cubicBezTo>
                  <a:pt x="15408" y="13455"/>
                  <a:pt x="15386" y="13546"/>
                  <a:pt x="15354" y="13618"/>
                </a:cubicBezTo>
                <a:cubicBezTo>
                  <a:pt x="15316" y="13704"/>
                  <a:pt x="15364" y="13762"/>
                  <a:pt x="15404" y="13841"/>
                </a:cubicBezTo>
                <a:cubicBezTo>
                  <a:pt x="15436" y="13906"/>
                  <a:pt x="15476" y="13960"/>
                  <a:pt x="15553" y="13965"/>
                </a:cubicBezTo>
                <a:cubicBezTo>
                  <a:pt x="15609" y="13969"/>
                  <a:pt x="15645" y="13966"/>
                  <a:pt x="15677" y="13915"/>
                </a:cubicBezTo>
                <a:cubicBezTo>
                  <a:pt x="15700" y="13879"/>
                  <a:pt x="15721" y="13784"/>
                  <a:pt x="15701" y="13742"/>
                </a:cubicBezTo>
                <a:cubicBezTo>
                  <a:pt x="15672" y="13682"/>
                  <a:pt x="15637" y="13684"/>
                  <a:pt x="15602" y="13692"/>
                </a:cubicBezTo>
                <a:cubicBezTo>
                  <a:pt x="15538" y="13706"/>
                  <a:pt x="15531" y="13753"/>
                  <a:pt x="15528" y="13816"/>
                </a:cubicBezTo>
                <a:cubicBezTo>
                  <a:pt x="15523" y="13898"/>
                  <a:pt x="15525" y="13965"/>
                  <a:pt x="15553" y="14039"/>
                </a:cubicBezTo>
              </a:path>
              <a:path w="15950" h="4292">
                <a:moveTo>
                  <a:pt x="15801" y="14486"/>
                </a:moveTo>
                <a:cubicBezTo>
                  <a:pt x="15801" y="14469"/>
                  <a:pt x="15801" y="14453"/>
                  <a:pt x="15801" y="14436"/>
                </a:cubicBezTo>
              </a:path>
              <a:path w="15950" h="4292">
                <a:moveTo>
                  <a:pt x="16049" y="13915"/>
                </a:moveTo>
                <a:cubicBezTo>
                  <a:pt x="16086" y="13889"/>
                  <a:pt x="16195" y="13789"/>
                  <a:pt x="16247" y="13791"/>
                </a:cubicBezTo>
                <a:cubicBezTo>
                  <a:pt x="16317" y="13794"/>
                  <a:pt x="16373" y="13845"/>
                  <a:pt x="16421" y="13891"/>
                </a:cubicBezTo>
                <a:cubicBezTo>
                  <a:pt x="16494" y="13959"/>
                  <a:pt x="16534" y="14089"/>
                  <a:pt x="16545" y="14188"/>
                </a:cubicBezTo>
                <a:cubicBezTo>
                  <a:pt x="16567" y="14378"/>
                  <a:pt x="16477" y="14561"/>
                  <a:pt x="16421" y="14734"/>
                </a:cubicBezTo>
                <a:cubicBezTo>
                  <a:pt x="16392" y="14825"/>
                  <a:pt x="16346" y="14964"/>
                  <a:pt x="16272" y="15032"/>
                </a:cubicBezTo>
                <a:cubicBezTo>
                  <a:pt x="16235" y="15066"/>
                  <a:pt x="16222" y="15062"/>
                  <a:pt x="16197" y="15081"/>
                </a:cubicBezTo>
                <a:cubicBezTo>
                  <a:pt x="16176" y="15045"/>
                  <a:pt x="16173" y="15021"/>
                  <a:pt x="16173" y="14957"/>
                </a:cubicBezTo>
                <a:cubicBezTo>
                  <a:pt x="16173" y="14873"/>
                  <a:pt x="16188" y="14785"/>
                  <a:pt x="16222" y="14709"/>
                </a:cubicBezTo>
                <a:cubicBezTo>
                  <a:pt x="16248" y="14651"/>
                  <a:pt x="16241" y="14630"/>
                  <a:pt x="16297" y="14610"/>
                </a:cubicBezTo>
                <a:cubicBezTo>
                  <a:pt x="16351" y="14591"/>
                  <a:pt x="16440" y="14672"/>
                  <a:pt x="16470" y="14709"/>
                </a:cubicBezTo>
                <a:cubicBezTo>
                  <a:pt x="16556" y="14814"/>
                  <a:pt x="16596" y="14944"/>
                  <a:pt x="16669" y="15056"/>
                </a:cubicBezTo>
                <a:cubicBezTo>
                  <a:pt x="16717" y="15130"/>
                  <a:pt x="16716" y="14937"/>
                  <a:pt x="16718" y="14908"/>
                </a:cubicBezTo>
              </a:path>
              <a:path w="15950" h="4292">
                <a:moveTo>
                  <a:pt x="16718" y="13568"/>
                </a:moveTo>
                <a:cubicBezTo>
                  <a:pt x="16729" y="13534"/>
                  <a:pt x="16753" y="13538"/>
                  <a:pt x="16768" y="13494"/>
                </a:cubicBezTo>
                <a:cubicBezTo>
                  <a:pt x="16781" y="13454"/>
                  <a:pt x="16764" y="13419"/>
                  <a:pt x="16818" y="13395"/>
                </a:cubicBezTo>
                <a:cubicBezTo>
                  <a:pt x="16863" y="13375"/>
                  <a:pt x="16875" y="13358"/>
                  <a:pt x="16917" y="13395"/>
                </a:cubicBezTo>
                <a:cubicBezTo>
                  <a:pt x="16983" y="13453"/>
                  <a:pt x="17003" y="13506"/>
                  <a:pt x="17016" y="13593"/>
                </a:cubicBezTo>
                <a:cubicBezTo>
                  <a:pt x="17028" y="13675"/>
                  <a:pt x="16971" y="13834"/>
                  <a:pt x="16917" y="13891"/>
                </a:cubicBezTo>
                <a:cubicBezTo>
                  <a:pt x="16903" y="13906"/>
                  <a:pt x="16789" y="13982"/>
                  <a:pt x="16768" y="13965"/>
                </a:cubicBezTo>
                <a:cubicBezTo>
                  <a:pt x="16754" y="13954"/>
                  <a:pt x="16720" y="13917"/>
                  <a:pt x="16694" y="13891"/>
                </a:cubicBezTo>
                <a:cubicBezTo>
                  <a:pt x="16674" y="13871"/>
                  <a:pt x="16651" y="13822"/>
                  <a:pt x="16669" y="13791"/>
                </a:cubicBezTo>
                <a:cubicBezTo>
                  <a:pt x="16677" y="13783"/>
                  <a:pt x="16686" y="13775"/>
                  <a:pt x="16694" y="13767"/>
                </a:cubicBezTo>
                <a:cubicBezTo>
                  <a:pt x="16744" y="13767"/>
                  <a:pt x="16776" y="13784"/>
                  <a:pt x="16818" y="13816"/>
                </a:cubicBezTo>
                <a:cubicBezTo>
                  <a:pt x="16876" y="13860"/>
                  <a:pt x="16901" y="13904"/>
                  <a:pt x="16966" y="13915"/>
                </a:cubicBezTo>
                <a:cubicBezTo>
                  <a:pt x="16999" y="13915"/>
                  <a:pt x="17016" y="13915"/>
                  <a:pt x="17041" y="13915"/>
                </a:cubicBezTo>
              </a:path>
              <a:path w="15950" h="4292">
                <a:moveTo>
                  <a:pt x="17165" y="13494"/>
                </a:moveTo>
                <a:cubicBezTo>
                  <a:pt x="17230" y="13541"/>
                  <a:pt x="17269" y="13597"/>
                  <a:pt x="17314" y="13667"/>
                </a:cubicBezTo>
                <a:cubicBezTo>
                  <a:pt x="17352" y="13726"/>
                  <a:pt x="17409" y="13814"/>
                  <a:pt x="17462" y="13841"/>
                </a:cubicBezTo>
              </a:path>
              <a:path w="15950" h="4292">
                <a:moveTo>
                  <a:pt x="17487" y="13444"/>
                </a:moveTo>
                <a:cubicBezTo>
                  <a:pt x="17354" y="13564"/>
                  <a:pt x="17264" y="13689"/>
                  <a:pt x="17140" y="13816"/>
                </a:cubicBezTo>
                <a:cubicBezTo>
                  <a:pt x="17051" y="13907"/>
                  <a:pt x="16966" y="13985"/>
                  <a:pt x="16867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830160" y="5286240"/>
            <a:ext cx="1189080" cy="500040"/>
          </a:xfrm>
          <a:custGeom>
            <a:avLst/>
            <a:gdLst/>
            <a:ahLst/>
            <a:rect l="l" t="t" r="r" b="b"/>
            <a:pathLst>
              <a:path w="3300" h="1390">
                <a:moveTo>
                  <a:pt x="2431" y="14684"/>
                </a:moveTo>
                <a:cubicBezTo>
                  <a:pt x="2431" y="14877"/>
                  <a:pt x="2426" y="15067"/>
                  <a:pt x="2406" y="15255"/>
                </a:cubicBezTo>
                <a:cubicBezTo>
                  <a:pt x="2396" y="15347"/>
                  <a:pt x="2406" y="15440"/>
                  <a:pt x="2381" y="15528"/>
                </a:cubicBezTo>
                <a:cubicBezTo>
                  <a:pt x="2380" y="15532"/>
                  <a:pt x="2345" y="15656"/>
                  <a:pt x="2332" y="15652"/>
                </a:cubicBezTo>
                <a:cubicBezTo>
                  <a:pt x="2332" y="15644"/>
                  <a:pt x="2332" y="15635"/>
                  <a:pt x="2332" y="15627"/>
                </a:cubicBezTo>
              </a:path>
              <a:path w="3300" h="1390">
                <a:moveTo>
                  <a:pt x="2729" y="14784"/>
                </a:moveTo>
                <a:cubicBezTo>
                  <a:pt x="2740" y="14890"/>
                  <a:pt x="2747" y="14951"/>
                  <a:pt x="2729" y="15056"/>
                </a:cubicBezTo>
                <a:cubicBezTo>
                  <a:pt x="2705" y="15200"/>
                  <a:pt x="2704" y="15334"/>
                  <a:pt x="2704" y="15478"/>
                </a:cubicBezTo>
                <a:cubicBezTo>
                  <a:pt x="2704" y="15545"/>
                  <a:pt x="2691" y="15590"/>
                  <a:pt x="2679" y="15652"/>
                </a:cubicBezTo>
              </a:path>
              <a:path w="3300" h="1390">
                <a:moveTo>
                  <a:pt x="2307" y="15230"/>
                </a:moveTo>
                <a:cubicBezTo>
                  <a:pt x="2372" y="15230"/>
                  <a:pt x="2445" y="15236"/>
                  <a:pt x="2505" y="15255"/>
                </a:cubicBezTo>
                <a:cubicBezTo>
                  <a:pt x="2600" y="15285"/>
                  <a:pt x="2657" y="15297"/>
                  <a:pt x="2753" y="15280"/>
                </a:cubicBezTo>
              </a:path>
              <a:path w="3300" h="1390">
                <a:moveTo>
                  <a:pt x="3150" y="14784"/>
                </a:moveTo>
                <a:cubicBezTo>
                  <a:pt x="3089" y="14876"/>
                  <a:pt x="3045" y="14957"/>
                  <a:pt x="3001" y="15056"/>
                </a:cubicBezTo>
                <a:cubicBezTo>
                  <a:pt x="2950" y="15169"/>
                  <a:pt x="2931" y="15278"/>
                  <a:pt x="2927" y="15404"/>
                </a:cubicBezTo>
                <a:cubicBezTo>
                  <a:pt x="2924" y="15498"/>
                  <a:pt x="2940" y="15593"/>
                  <a:pt x="2977" y="15677"/>
                </a:cubicBezTo>
                <a:cubicBezTo>
                  <a:pt x="3003" y="15737"/>
                  <a:pt x="2999" y="15726"/>
                  <a:pt x="3051" y="15726"/>
                </a:cubicBezTo>
              </a:path>
              <a:path w="3300" h="1390">
                <a:moveTo>
                  <a:pt x="3225" y="15032"/>
                </a:moveTo>
                <a:cubicBezTo>
                  <a:pt x="3282" y="14949"/>
                  <a:pt x="3286" y="14910"/>
                  <a:pt x="3373" y="14957"/>
                </a:cubicBezTo>
                <a:cubicBezTo>
                  <a:pt x="3418" y="14981"/>
                  <a:pt x="3508" y="15040"/>
                  <a:pt x="3497" y="15106"/>
                </a:cubicBezTo>
                <a:cubicBezTo>
                  <a:pt x="3491" y="15144"/>
                  <a:pt x="3380" y="15220"/>
                  <a:pt x="3349" y="15230"/>
                </a:cubicBezTo>
                <a:cubicBezTo>
                  <a:pt x="3302" y="15246"/>
                  <a:pt x="3293" y="15222"/>
                  <a:pt x="3249" y="15255"/>
                </a:cubicBezTo>
                <a:cubicBezTo>
                  <a:pt x="3281" y="15298"/>
                  <a:pt x="3307" y="15337"/>
                  <a:pt x="3349" y="15379"/>
                </a:cubicBezTo>
                <a:cubicBezTo>
                  <a:pt x="3399" y="15430"/>
                  <a:pt x="3457" y="15529"/>
                  <a:pt x="3473" y="15602"/>
                </a:cubicBezTo>
                <a:cubicBezTo>
                  <a:pt x="3483" y="15648"/>
                  <a:pt x="3471" y="15705"/>
                  <a:pt x="3423" y="15726"/>
                </a:cubicBezTo>
                <a:cubicBezTo>
                  <a:pt x="3369" y="15750"/>
                  <a:pt x="3317" y="15700"/>
                  <a:pt x="3274" y="15677"/>
                </a:cubicBezTo>
                <a:cubicBezTo>
                  <a:pt x="3199" y="15637"/>
                  <a:pt x="3185" y="15583"/>
                  <a:pt x="3175" y="15503"/>
                </a:cubicBezTo>
              </a:path>
              <a:path w="3300" h="1390">
                <a:moveTo>
                  <a:pt x="3448" y="14709"/>
                </a:moveTo>
                <a:cubicBezTo>
                  <a:pt x="3565" y="14848"/>
                  <a:pt x="3642" y="14975"/>
                  <a:pt x="3696" y="15156"/>
                </a:cubicBezTo>
                <a:cubicBezTo>
                  <a:pt x="3745" y="15321"/>
                  <a:pt x="3746" y="15482"/>
                  <a:pt x="3746" y="15652"/>
                </a:cubicBezTo>
                <a:cubicBezTo>
                  <a:pt x="3746" y="15745"/>
                  <a:pt x="3733" y="15871"/>
                  <a:pt x="3671" y="15949"/>
                </a:cubicBezTo>
                <a:cubicBezTo>
                  <a:pt x="3593" y="16048"/>
                  <a:pt x="3592" y="16031"/>
                  <a:pt x="3572" y="15949"/>
                </a:cubicBezTo>
              </a:path>
              <a:path w="3300" h="1390">
                <a:moveTo>
                  <a:pt x="3969" y="15304"/>
                </a:moveTo>
                <a:cubicBezTo>
                  <a:pt x="4039" y="15304"/>
                  <a:pt x="4153" y="15290"/>
                  <a:pt x="4217" y="15329"/>
                </a:cubicBezTo>
                <a:cubicBezTo>
                  <a:pt x="4225" y="15337"/>
                  <a:pt x="4234" y="15346"/>
                  <a:pt x="4242" y="15354"/>
                </a:cubicBezTo>
              </a:path>
              <a:path w="3300" h="1390">
                <a:moveTo>
                  <a:pt x="3894" y="15577"/>
                </a:moveTo>
                <a:cubicBezTo>
                  <a:pt x="3983" y="15626"/>
                  <a:pt x="4059" y="15647"/>
                  <a:pt x="4167" y="15627"/>
                </a:cubicBezTo>
                <a:cubicBezTo>
                  <a:pt x="4239" y="15603"/>
                  <a:pt x="4262" y="15597"/>
                  <a:pt x="4291" y="15553"/>
                </a:cubicBezTo>
              </a:path>
              <a:path w="3300" h="1390">
                <a:moveTo>
                  <a:pt x="4663" y="15081"/>
                </a:moveTo>
                <a:cubicBezTo>
                  <a:pt x="4635" y="15185"/>
                  <a:pt x="4599" y="15278"/>
                  <a:pt x="4564" y="15379"/>
                </a:cubicBezTo>
                <a:cubicBezTo>
                  <a:pt x="4527" y="15484"/>
                  <a:pt x="4494" y="15590"/>
                  <a:pt x="4490" y="15701"/>
                </a:cubicBezTo>
                <a:cubicBezTo>
                  <a:pt x="4487" y="15783"/>
                  <a:pt x="4517" y="15904"/>
                  <a:pt x="4564" y="15974"/>
                </a:cubicBezTo>
                <a:cubicBezTo>
                  <a:pt x="4615" y="16050"/>
                  <a:pt x="4685" y="16081"/>
                  <a:pt x="4762" y="16049"/>
                </a:cubicBezTo>
                <a:cubicBezTo>
                  <a:pt x="4817" y="16026"/>
                  <a:pt x="4878" y="15974"/>
                  <a:pt x="4911" y="15925"/>
                </a:cubicBezTo>
                <a:cubicBezTo>
                  <a:pt x="4947" y="15871"/>
                  <a:pt x="4936" y="15813"/>
                  <a:pt x="4936" y="15751"/>
                </a:cubicBezTo>
                <a:cubicBezTo>
                  <a:pt x="4936" y="15707"/>
                  <a:pt x="4938" y="15712"/>
                  <a:pt x="4911" y="15677"/>
                </a:cubicBezTo>
                <a:cubicBezTo>
                  <a:pt x="4853" y="15691"/>
                  <a:pt x="4819" y="15723"/>
                  <a:pt x="4787" y="15776"/>
                </a:cubicBezTo>
                <a:cubicBezTo>
                  <a:pt x="4744" y="15849"/>
                  <a:pt x="4692" y="15920"/>
                  <a:pt x="4738" y="15999"/>
                </a:cubicBezTo>
                <a:cubicBezTo>
                  <a:pt x="4746" y="16007"/>
                  <a:pt x="4754" y="16016"/>
                  <a:pt x="4762" y="16024"/>
                </a:cubicBezTo>
              </a:path>
              <a:path w="3300" h="1390">
                <a:moveTo>
                  <a:pt x="5159" y="15180"/>
                </a:moveTo>
                <a:cubicBezTo>
                  <a:pt x="5147" y="15255"/>
                  <a:pt x="5121" y="15329"/>
                  <a:pt x="5110" y="15404"/>
                </a:cubicBezTo>
                <a:cubicBezTo>
                  <a:pt x="5104" y="15448"/>
                  <a:pt x="5140" y="15615"/>
                  <a:pt x="5159" y="15652"/>
                </a:cubicBezTo>
                <a:cubicBezTo>
                  <a:pt x="5167" y="15667"/>
                  <a:pt x="5254" y="15764"/>
                  <a:pt x="5283" y="15751"/>
                </a:cubicBezTo>
                <a:cubicBezTo>
                  <a:pt x="5291" y="15743"/>
                  <a:pt x="5300" y="15734"/>
                  <a:pt x="5308" y="15726"/>
                </a:cubicBezTo>
              </a:path>
              <a:path w="3300" h="1390">
                <a:moveTo>
                  <a:pt x="5432" y="15056"/>
                </a:moveTo>
                <a:cubicBezTo>
                  <a:pt x="5396" y="15153"/>
                  <a:pt x="5370" y="15275"/>
                  <a:pt x="5358" y="15379"/>
                </a:cubicBezTo>
                <a:cubicBezTo>
                  <a:pt x="5345" y="15491"/>
                  <a:pt x="5336" y="15614"/>
                  <a:pt x="5333" y="15726"/>
                </a:cubicBezTo>
                <a:cubicBezTo>
                  <a:pt x="5330" y="15824"/>
                  <a:pt x="5308" y="15900"/>
                  <a:pt x="5308" y="15999"/>
                </a:cubicBezTo>
                <a:cubicBezTo>
                  <a:pt x="5308" y="16040"/>
                  <a:pt x="5308" y="16048"/>
                  <a:pt x="5308" y="16073"/>
                </a:cubicBezTo>
              </a:path>
              <a:path w="3300" h="1390">
                <a:moveTo>
                  <a:pt x="5581" y="15701"/>
                </a:moveTo>
                <a:cubicBezTo>
                  <a:pt x="5589" y="15701"/>
                  <a:pt x="5598" y="15701"/>
                  <a:pt x="5606" y="157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5303880"/>
            <a:ext cx="287280" cy="554040"/>
          </a:xfrm>
          <a:custGeom>
            <a:avLst/>
            <a:gdLst/>
            <a:ahLst/>
            <a:rect l="l" t="t" r="r" b="b"/>
            <a:pathLst>
              <a:path w="795" h="1539">
                <a:moveTo>
                  <a:pt x="6003" y="15180"/>
                </a:moveTo>
                <a:cubicBezTo>
                  <a:pt x="5975" y="15201"/>
                  <a:pt x="5934" y="15217"/>
                  <a:pt x="5928" y="15255"/>
                </a:cubicBezTo>
                <a:cubicBezTo>
                  <a:pt x="5918" y="15315"/>
                  <a:pt x="5918" y="15401"/>
                  <a:pt x="5953" y="15453"/>
                </a:cubicBezTo>
                <a:cubicBezTo>
                  <a:pt x="5987" y="15504"/>
                  <a:pt x="6014" y="15556"/>
                  <a:pt x="6077" y="15577"/>
                </a:cubicBezTo>
                <a:cubicBezTo>
                  <a:pt x="6135" y="15596"/>
                  <a:pt x="6108" y="15597"/>
                  <a:pt x="6176" y="15577"/>
                </a:cubicBezTo>
              </a:path>
              <a:path w="795" h="1539">
                <a:moveTo>
                  <a:pt x="6251" y="15156"/>
                </a:moveTo>
                <a:cubicBezTo>
                  <a:pt x="6217" y="15305"/>
                  <a:pt x="6181" y="15449"/>
                  <a:pt x="6176" y="15602"/>
                </a:cubicBezTo>
                <a:cubicBezTo>
                  <a:pt x="6172" y="15736"/>
                  <a:pt x="6152" y="15863"/>
                  <a:pt x="6152" y="15999"/>
                </a:cubicBezTo>
                <a:cubicBezTo>
                  <a:pt x="6152" y="16049"/>
                  <a:pt x="6152" y="16280"/>
                  <a:pt x="6152" y="16247"/>
                </a:cubicBezTo>
              </a:path>
              <a:path w="795" h="1539">
                <a:moveTo>
                  <a:pt x="6424" y="14734"/>
                </a:moveTo>
                <a:cubicBezTo>
                  <a:pt x="6486" y="14757"/>
                  <a:pt x="6559" y="14773"/>
                  <a:pt x="6598" y="14833"/>
                </a:cubicBezTo>
                <a:cubicBezTo>
                  <a:pt x="6629" y="14881"/>
                  <a:pt x="6634" y="14930"/>
                  <a:pt x="6573" y="14957"/>
                </a:cubicBezTo>
                <a:cubicBezTo>
                  <a:pt x="6539" y="14972"/>
                  <a:pt x="6515" y="14982"/>
                  <a:pt x="6474" y="14982"/>
                </a:cubicBezTo>
                <a:cubicBezTo>
                  <a:pt x="6474" y="15036"/>
                  <a:pt x="6486" y="15042"/>
                  <a:pt x="6524" y="15081"/>
                </a:cubicBezTo>
                <a:cubicBezTo>
                  <a:pt x="6546" y="15104"/>
                  <a:pt x="6638" y="15171"/>
                  <a:pt x="6623" y="15205"/>
                </a:cubicBezTo>
                <a:cubicBezTo>
                  <a:pt x="6609" y="15237"/>
                  <a:pt x="6551" y="15234"/>
                  <a:pt x="6524" y="15255"/>
                </a:cubicBezTo>
                <a:cubicBezTo>
                  <a:pt x="6497" y="15239"/>
                  <a:pt x="6437" y="15209"/>
                  <a:pt x="6400" y="15230"/>
                </a:cubicBezTo>
                <a:cubicBezTo>
                  <a:pt x="6392" y="15238"/>
                  <a:pt x="6383" y="15247"/>
                  <a:pt x="6375" y="15255"/>
                </a:cubicBezTo>
              </a:path>
              <a:path w="795" h="1539">
                <a:moveTo>
                  <a:pt x="6598" y="15677"/>
                </a:moveTo>
                <a:cubicBezTo>
                  <a:pt x="6646" y="15700"/>
                  <a:pt x="6661" y="15708"/>
                  <a:pt x="6697" y="15701"/>
                </a:cubicBezTo>
              </a:path>
              <a:path w="795" h="1539">
                <a:moveTo>
                  <a:pt x="6548" y="15726"/>
                </a:moveTo>
                <a:cubicBezTo>
                  <a:pt x="6621" y="15773"/>
                  <a:pt x="6642" y="15791"/>
                  <a:pt x="6722" y="158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544840" y="5446800"/>
            <a:ext cx="1465200" cy="393480"/>
          </a:xfrm>
          <a:custGeom>
            <a:avLst/>
            <a:gdLst/>
            <a:ahLst/>
            <a:rect l="l" t="t" r="r" b="b"/>
            <a:pathLst>
              <a:path w="4069" h="1092">
                <a:moveTo>
                  <a:pt x="7243" y="15230"/>
                </a:moveTo>
                <a:cubicBezTo>
                  <a:pt x="7231" y="15291"/>
                  <a:pt x="7197" y="15347"/>
                  <a:pt x="7169" y="15404"/>
                </a:cubicBezTo>
                <a:cubicBezTo>
                  <a:pt x="7129" y="15484"/>
                  <a:pt x="7082" y="15589"/>
                  <a:pt x="7069" y="15677"/>
                </a:cubicBezTo>
                <a:cubicBezTo>
                  <a:pt x="7054" y="15778"/>
                  <a:pt x="7046" y="15954"/>
                  <a:pt x="7094" y="16049"/>
                </a:cubicBezTo>
                <a:cubicBezTo>
                  <a:pt x="7131" y="16123"/>
                  <a:pt x="7178" y="16153"/>
                  <a:pt x="7243" y="16123"/>
                </a:cubicBezTo>
                <a:cubicBezTo>
                  <a:pt x="7312" y="16091"/>
                  <a:pt x="7353" y="16064"/>
                  <a:pt x="7392" y="15999"/>
                </a:cubicBezTo>
                <a:cubicBezTo>
                  <a:pt x="7426" y="15942"/>
                  <a:pt x="7417" y="15889"/>
                  <a:pt x="7417" y="15825"/>
                </a:cubicBezTo>
                <a:cubicBezTo>
                  <a:pt x="7417" y="15763"/>
                  <a:pt x="7363" y="15776"/>
                  <a:pt x="7317" y="15776"/>
                </a:cubicBezTo>
                <a:cubicBezTo>
                  <a:pt x="7271" y="15776"/>
                  <a:pt x="7183" y="15853"/>
                  <a:pt x="7169" y="15900"/>
                </a:cubicBezTo>
                <a:cubicBezTo>
                  <a:pt x="7157" y="15940"/>
                  <a:pt x="7169" y="16007"/>
                  <a:pt x="7169" y="16049"/>
                </a:cubicBezTo>
              </a:path>
              <a:path w="4069" h="1092">
                <a:moveTo>
                  <a:pt x="7491" y="15329"/>
                </a:moveTo>
                <a:cubicBezTo>
                  <a:pt x="7491" y="15392"/>
                  <a:pt x="7484" y="15391"/>
                  <a:pt x="7491" y="15453"/>
                </a:cubicBezTo>
                <a:cubicBezTo>
                  <a:pt x="7500" y="15529"/>
                  <a:pt x="7489" y="15585"/>
                  <a:pt x="7541" y="15652"/>
                </a:cubicBezTo>
                <a:cubicBezTo>
                  <a:pt x="7580" y="15703"/>
                  <a:pt x="7598" y="15695"/>
                  <a:pt x="7640" y="15726"/>
                </a:cubicBezTo>
              </a:path>
              <a:path w="4069" h="1092">
                <a:moveTo>
                  <a:pt x="7838" y="15230"/>
                </a:moveTo>
                <a:cubicBezTo>
                  <a:pt x="7798" y="15311"/>
                  <a:pt x="7768" y="15392"/>
                  <a:pt x="7739" y="15478"/>
                </a:cubicBezTo>
                <a:cubicBezTo>
                  <a:pt x="7697" y="15604"/>
                  <a:pt x="7689" y="15724"/>
                  <a:pt x="7665" y="15850"/>
                </a:cubicBezTo>
                <a:cubicBezTo>
                  <a:pt x="7649" y="15931"/>
                  <a:pt x="7628" y="16027"/>
                  <a:pt x="7615" y="16098"/>
                </a:cubicBezTo>
                <a:cubicBezTo>
                  <a:pt x="7615" y="16115"/>
                  <a:pt x="7615" y="16131"/>
                  <a:pt x="7615" y="16148"/>
                </a:cubicBezTo>
              </a:path>
              <a:path w="4069" h="1092">
                <a:moveTo>
                  <a:pt x="7888" y="15875"/>
                </a:moveTo>
                <a:cubicBezTo>
                  <a:pt x="7918" y="15835"/>
                  <a:pt x="7935" y="15799"/>
                  <a:pt x="7962" y="15751"/>
                </a:cubicBezTo>
              </a:path>
              <a:path w="4069" h="1092">
                <a:moveTo>
                  <a:pt x="8260" y="15379"/>
                </a:moveTo>
                <a:cubicBezTo>
                  <a:pt x="8214" y="15478"/>
                  <a:pt x="8172" y="15574"/>
                  <a:pt x="8136" y="15677"/>
                </a:cubicBezTo>
                <a:cubicBezTo>
                  <a:pt x="8104" y="15770"/>
                  <a:pt x="8086" y="15826"/>
                  <a:pt x="8086" y="15925"/>
                </a:cubicBezTo>
                <a:cubicBezTo>
                  <a:pt x="8086" y="15997"/>
                  <a:pt x="8113" y="16025"/>
                  <a:pt x="8161" y="16073"/>
                </a:cubicBezTo>
                <a:cubicBezTo>
                  <a:pt x="8236" y="16147"/>
                  <a:pt x="8290" y="16034"/>
                  <a:pt x="8334" y="15999"/>
                </a:cubicBezTo>
                <a:cubicBezTo>
                  <a:pt x="8390" y="15954"/>
                  <a:pt x="8415" y="15924"/>
                  <a:pt x="8434" y="15850"/>
                </a:cubicBezTo>
                <a:cubicBezTo>
                  <a:pt x="8444" y="15809"/>
                  <a:pt x="8394" y="15748"/>
                  <a:pt x="8359" y="15751"/>
                </a:cubicBezTo>
                <a:cubicBezTo>
                  <a:pt x="8305" y="15756"/>
                  <a:pt x="8251" y="15808"/>
                  <a:pt x="8210" y="15850"/>
                </a:cubicBezTo>
                <a:cubicBezTo>
                  <a:pt x="8176" y="15884"/>
                  <a:pt x="8186" y="15900"/>
                  <a:pt x="8186" y="15949"/>
                </a:cubicBezTo>
              </a:path>
              <a:path w="4069" h="1092">
                <a:moveTo>
                  <a:pt x="8508" y="15304"/>
                </a:moveTo>
                <a:cubicBezTo>
                  <a:pt x="8508" y="15395"/>
                  <a:pt x="8500" y="15468"/>
                  <a:pt x="8533" y="15553"/>
                </a:cubicBezTo>
                <a:cubicBezTo>
                  <a:pt x="8553" y="15606"/>
                  <a:pt x="8593" y="15638"/>
                  <a:pt x="8632" y="15677"/>
                </a:cubicBezTo>
              </a:path>
              <a:path w="4069" h="1092">
                <a:moveTo>
                  <a:pt x="8781" y="15131"/>
                </a:moveTo>
                <a:cubicBezTo>
                  <a:pt x="8693" y="15301"/>
                  <a:pt x="8604" y="15458"/>
                  <a:pt x="8582" y="15652"/>
                </a:cubicBezTo>
                <a:cubicBezTo>
                  <a:pt x="8569" y="15768"/>
                  <a:pt x="8558" y="15882"/>
                  <a:pt x="8558" y="15999"/>
                </a:cubicBezTo>
                <a:cubicBezTo>
                  <a:pt x="8558" y="16040"/>
                  <a:pt x="8558" y="16048"/>
                  <a:pt x="8558" y="16073"/>
                </a:cubicBezTo>
              </a:path>
              <a:path w="4069" h="1092">
                <a:moveTo>
                  <a:pt x="9004" y="15528"/>
                </a:moveTo>
                <a:cubicBezTo>
                  <a:pt x="9054" y="15520"/>
                  <a:pt x="9103" y="15511"/>
                  <a:pt x="9153" y="15503"/>
                </a:cubicBezTo>
              </a:path>
              <a:path w="4069" h="1092">
                <a:moveTo>
                  <a:pt x="8905" y="15751"/>
                </a:moveTo>
                <a:cubicBezTo>
                  <a:pt x="9010" y="15826"/>
                  <a:pt x="9033" y="15850"/>
                  <a:pt x="9153" y="15850"/>
                </a:cubicBezTo>
              </a:path>
              <a:path w="4069" h="1092">
                <a:moveTo>
                  <a:pt x="9500" y="15280"/>
                </a:moveTo>
                <a:cubicBezTo>
                  <a:pt x="9451" y="15328"/>
                  <a:pt x="9451" y="15335"/>
                  <a:pt x="9451" y="15404"/>
                </a:cubicBezTo>
                <a:cubicBezTo>
                  <a:pt x="9451" y="15471"/>
                  <a:pt x="9480" y="15564"/>
                  <a:pt x="9500" y="15627"/>
                </a:cubicBezTo>
                <a:cubicBezTo>
                  <a:pt x="9508" y="15651"/>
                  <a:pt x="9559" y="15744"/>
                  <a:pt x="9599" y="15726"/>
                </a:cubicBezTo>
                <a:cubicBezTo>
                  <a:pt x="9648" y="15704"/>
                  <a:pt x="9670" y="15668"/>
                  <a:pt x="9699" y="15627"/>
                </a:cubicBezTo>
              </a:path>
              <a:path w="4069" h="1092">
                <a:moveTo>
                  <a:pt x="9748" y="15230"/>
                </a:moveTo>
                <a:cubicBezTo>
                  <a:pt x="9712" y="15303"/>
                  <a:pt x="9672" y="15374"/>
                  <a:pt x="9649" y="15453"/>
                </a:cubicBezTo>
                <a:cubicBezTo>
                  <a:pt x="9615" y="15571"/>
                  <a:pt x="9603" y="15703"/>
                  <a:pt x="9599" y="15825"/>
                </a:cubicBezTo>
                <a:cubicBezTo>
                  <a:pt x="9596" y="15920"/>
                  <a:pt x="9581" y="16005"/>
                  <a:pt x="9575" y="16098"/>
                </a:cubicBezTo>
                <a:cubicBezTo>
                  <a:pt x="9572" y="16144"/>
                  <a:pt x="9559" y="16151"/>
                  <a:pt x="9599" y="16123"/>
                </a:cubicBezTo>
              </a:path>
              <a:path w="4069" h="1092">
                <a:moveTo>
                  <a:pt x="10021" y="15354"/>
                </a:moveTo>
                <a:cubicBezTo>
                  <a:pt x="9938" y="15437"/>
                  <a:pt x="9909" y="15490"/>
                  <a:pt x="9872" y="15602"/>
                </a:cubicBezTo>
                <a:cubicBezTo>
                  <a:pt x="9829" y="15730"/>
                  <a:pt x="9879" y="15777"/>
                  <a:pt x="9897" y="15900"/>
                </a:cubicBezTo>
                <a:cubicBezTo>
                  <a:pt x="9906" y="15961"/>
                  <a:pt x="9930" y="16061"/>
                  <a:pt x="9996" y="16098"/>
                </a:cubicBezTo>
                <a:cubicBezTo>
                  <a:pt x="10004" y="16098"/>
                  <a:pt x="10013" y="16098"/>
                  <a:pt x="10021" y="16098"/>
                </a:cubicBezTo>
                <a:cubicBezTo>
                  <a:pt x="10098" y="16047"/>
                  <a:pt x="10182" y="15989"/>
                  <a:pt x="10220" y="15900"/>
                </a:cubicBezTo>
                <a:cubicBezTo>
                  <a:pt x="10260" y="15807"/>
                  <a:pt x="10244" y="15701"/>
                  <a:pt x="10244" y="15602"/>
                </a:cubicBezTo>
                <a:cubicBezTo>
                  <a:pt x="10244" y="15520"/>
                  <a:pt x="10225" y="15465"/>
                  <a:pt x="10170" y="15404"/>
                </a:cubicBezTo>
                <a:cubicBezTo>
                  <a:pt x="10147" y="15379"/>
                  <a:pt x="10083" y="15346"/>
                  <a:pt x="10120" y="15404"/>
                </a:cubicBezTo>
              </a:path>
              <a:path w="4069" h="1092">
                <a:moveTo>
                  <a:pt x="10691" y="15255"/>
                </a:moveTo>
                <a:cubicBezTo>
                  <a:pt x="10630" y="15232"/>
                  <a:pt x="10577" y="15209"/>
                  <a:pt x="10517" y="15255"/>
                </a:cubicBezTo>
                <a:cubicBezTo>
                  <a:pt x="10454" y="15303"/>
                  <a:pt x="10421" y="15351"/>
                  <a:pt x="10418" y="15429"/>
                </a:cubicBezTo>
                <a:cubicBezTo>
                  <a:pt x="10415" y="15493"/>
                  <a:pt x="10432" y="15572"/>
                  <a:pt x="10468" y="15627"/>
                </a:cubicBezTo>
                <a:cubicBezTo>
                  <a:pt x="10479" y="15644"/>
                  <a:pt x="10547" y="15686"/>
                  <a:pt x="10567" y="15677"/>
                </a:cubicBezTo>
                <a:cubicBezTo>
                  <a:pt x="10607" y="15659"/>
                  <a:pt x="10646" y="15632"/>
                  <a:pt x="10691" y="15627"/>
                </a:cubicBezTo>
                <a:cubicBezTo>
                  <a:pt x="10699" y="15627"/>
                  <a:pt x="10708" y="15627"/>
                  <a:pt x="10716" y="15627"/>
                </a:cubicBezTo>
                <a:cubicBezTo>
                  <a:pt x="10704" y="15688"/>
                  <a:pt x="10670" y="15744"/>
                  <a:pt x="10641" y="15801"/>
                </a:cubicBezTo>
                <a:cubicBezTo>
                  <a:pt x="10611" y="15860"/>
                  <a:pt x="10596" y="15933"/>
                  <a:pt x="10592" y="15999"/>
                </a:cubicBezTo>
                <a:cubicBezTo>
                  <a:pt x="10592" y="16016"/>
                  <a:pt x="10592" y="16032"/>
                  <a:pt x="10592" y="16049"/>
                </a:cubicBezTo>
              </a:path>
              <a:path w="4069" h="1092">
                <a:moveTo>
                  <a:pt x="11013" y="15429"/>
                </a:moveTo>
                <a:cubicBezTo>
                  <a:pt x="10951" y="15514"/>
                  <a:pt x="10878" y="15591"/>
                  <a:pt x="10864" y="15701"/>
                </a:cubicBezTo>
                <a:cubicBezTo>
                  <a:pt x="10850" y="15816"/>
                  <a:pt x="10853" y="15962"/>
                  <a:pt x="10889" y="16073"/>
                </a:cubicBezTo>
                <a:cubicBezTo>
                  <a:pt x="10907" y="16129"/>
                  <a:pt x="10925" y="16215"/>
                  <a:pt x="10988" y="16222"/>
                </a:cubicBezTo>
                <a:cubicBezTo>
                  <a:pt x="11035" y="16227"/>
                  <a:pt x="11083" y="16214"/>
                  <a:pt x="11112" y="16173"/>
                </a:cubicBezTo>
                <a:cubicBezTo>
                  <a:pt x="11133" y="16143"/>
                  <a:pt x="11153" y="16062"/>
                  <a:pt x="11137" y="16024"/>
                </a:cubicBezTo>
                <a:cubicBezTo>
                  <a:pt x="11121" y="15987"/>
                  <a:pt x="11044" y="15976"/>
                  <a:pt x="11013" y="15974"/>
                </a:cubicBezTo>
                <a:cubicBezTo>
                  <a:pt x="10934" y="15969"/>
                  <a:pt x="10862" y="16022"/>
                  <a:pt x="10790" y="16049"/>
                </a:cubicBezTo>
                <a:cubicBezTo>
                  <a:pt x="10708" y="16076"/>
                  <a:pt x="10675" y="16086"/>
                  <a:pt x="10616" y="160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03120" y="4803840"/>
            <a:ext cx="295200" cy="277920"/>
          </a:xfrm>
          <a:custGeom>
            <a:avLst/>
            <a:gdLst/>
            <a:ahLst/>
            <a:rect l="l" t="t" r="r" b="b"/>
            <a:pathLst>
              <a:path w="820" h="770">
                <a:moveTo>
                  <a:pt x="1315" y="13568"/>
                </a:moveTo>
                <a:cubicBezTo>
                  <a:pt x="1301" y="13624"/>
                  <a:pt x="1263" y="13682"/>
                  <a:pt x="1240" y="13742"/>
                </a:cubicBezTo>
                <a:cubicBezTo>
                  <a:pt x="1204" y="13836"/>
                  <a:pt x="1171" y="13922"/>
                  <a:pt x="1141" y="14015"/>
                </a:cubicBezTo>
                <a:cubicBezTo>
                  <a:pt x="1127" y="14060"/>
                  <a:pt x="1101" y="14074"/>
                  <a:pt x="1091" y="14114"/>
                </a:cubicBezTo>
                <a:cubicBezTo>
                  <a:pt x="1091" y="14011"/>
                  <a:pt x="1113" y="13923"/>
                  <a:pt x="1116" y="13816"/>
                </a:cubicBezTo>
                <a:cubicBezTo>
                  <a:pt x="1119" y="13679"/>
                  <a:pt x="1113" y="13549"/>
                  <a:pt x="1141" y="13419"/>
                </a:cubicBezTo>
                <a:cubicBezTo>
                  <a:pt x="1148" y="13389"/>
                  <a:pt x="1159" y="13375"/>
                  <a:pt x="1166" y="13345"/>
                </a:cubicBezTo>
                <a:cubicBezTo>
                  <a:pt x="1207" y="13387"/>
                  <a:pt x="1233" y="13420"/>
                  <a:pt x="1265" y="13469"/>
                </a:cubicBezTo>
                <a:cubicBezTo>
                  <a:pt x="1316" y="13548"/>
                  <a:pt x="1378" y="13630"/>
                  <a:pt x="1414" y="13717"/>
                </a:cubicBezTo>
                <a:cubicBezTo>
                  <a:pt x="1443" y="13786"/>
                  <a:pt x="1486" y="13859"/>
                  <a:pt x="1463" y="13915"/>
                </a:cubicBezTo>
                <a:cubicBezTo>
                  <a:pt x="1409" y="13957"/>
                  <a:pt x="1357" y="13943"/>
                  <a:pt x="1290" y="13915"/>
                </a:cubicBezTo>
                <a:cubicBezTo>
                  <a:pt x="1177" y="13868"/>
                  <a:pt x="1082" y="13808"/>
                  <a:pt x="967" y="13767"/>
                </a:cubicBezTo>
                <a:cubicBezTo>
                  <a:pt x="912" y="13747"/>
                  <a:pt x="857" y="13734"/>
                  <a:pt x="843" y="13692"/>
                </a:cubicBezTo>
                <a:cubicBezTo>
                  <a:pt x="899" y="13678"/>
                  <a:pt x="954" y="13636"/>
                  <a:pt x="1017" y="13618"/>
                </a:cubicBezTo>
                <a:cubicBezTo>
                  <a:pt x="1156" y="13577"/>
                  <a:pt x="1300" y="13558"/>
                  <a:pt x="1439" y="13519"/>
                </a:cubicBezTo>
                <a:cubicBezTo>
                  <a:pt x="1455" y="13514"/>
                  <a:pt x="1662" y="13447"/>
                  <a:pt x="1662" y="13444"/>
                </a:cubicBezTo>
                <a:cubicBezTo>
                  <a:pt x="1659" y="13369"/>
                  <a:pt x="1526" y="13502"/>
                  <a:pt x="1463" y="13543"/>
                </a:cubicBezTo>
                <a:cubicBezTo>
                  <a:pt x="1354" y="13614"/>
                  <a:pt x="1226" y="13690"/>
                  <a:pt x="1141" y="13791"/>
                </a:cubicBezTo>
                <a:cubicBezTo>
                  <a:pt x="1088" y="13854"/>
                  <a:pt x="1017" y="13934"/>
                  <a:pt x="992" y="14015"/>
                </a:cubicBezTo>
                <a:cubicBezTo>
                  <a:pt x="986" y="14034"/>
                  <a:pt x="992" y="14068"/>
                  <a:pt x="992" y="140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633840" y="3054240"/>
            <a:ext cx="1982880" cy="928800"/>
          </a:xfrm>
          <a:custGeom>
            <a:avLst/>
            <a:gdLst/>
            <a:ahLst/>
            <a:rect l="l" t="t" r="r" b="b"/>
            <a:pathLst>
              <a:path w="5507" h="2581">
                <a:moveTo>
                  <a:pt x="10294" y="9178"/>
                </a:moveTo>
                <a:cubicBezTo>
                  <a:pt x="10308" y="9157"/>
                  <a:pt x="10357" y="9097"/>
                  <a:pt x="10368" y="9079"/>
                </a:cubicBezTo>
                <a:cubicBezTo>
                  <a:pt x="10398" y="9028"/>
                  <a:pt x="10428" y="8944"/>
                  <a:pt x="10492" y="8930"/>
                </a:cubicBezTo>
                <a:cubicBezTo>
                  <a:pt x="10538" y="8920"/>
                  <a:pt x="10630" y="8864"/>
                  <a:pt x="10666" y="8880"/>
                </a:cubicBezTo>
                <a:cubicBezTo>
                  <a:pt x="10752" y="8918"/>
                  <a:pt x="10798" y="8944"/>
                  <a:pt x="10840" y="9029"/>
                </a:cubicBezTo>
                <a:cubicBezTo>
                  <a:pt x="10909" y="9170"/>
                  <a:pt x="10935" y="9346"/>
                  <a:pt x="10939" y="9500"/>
                </a:cubicBezTo>
                <a:cubicBezTo>
                  <a:pt x="10944" y="9694"/>
                  <a:pt x="10915" y="9817"/>
                  <a:pt x="10840" y="9996"/>
                </a:cubicBezTo>
                <a:cubicBezTo>
                  <a:pt x="10751" y="10209"/>
                  <a:pt x="10673" y="10252"/>
                  <a:pt x="10517" y="10418"/>
                </a:cubicBezTo>
                <a:cubicBezTo>
                  <a:pt x="10465" y="10473"/>
                  <a:pt x="10391" y="10542"/>
                  <a:pt x="10294" y="10492"/>
                </a:cubicBezTo>
                <a:cubicBezTo>
                  <a:pt x="10245" y="10467"/>
                  <a:pt x="10150" y="10391"/>
                  <a:pt x="10120" y="10344"/>
                </a:cubicBezTo>
                <a:cubicBezTo>
                  <a:pt x="10079" y="10280"/>
                  <a:pt x="10080" y="10118"/>
                  <a:pt x="10096" y="10046"/>
                </a:cubicBezTo>
                <a:cubicBezTo>
                  <a:pt x="10111" y="9978"/>
                  <a:pt x="10166" y="9907"/>
                  <a:pt x="10220" y="9897"/>
                </a:cubicBezTo>
                <a:cubicBezTo>
                  <a:pt x="10302" y="9883"/>
                  <a:pt x="10365" y="9907"/>
                  <a:pt x="10418" y="9971"/>
                </a:cubicBezTo>
                <a:cubicBezTo>
                  <a:pt x="10475" y="10041"/>
                  <a:pt x="10574" y="10152"/>
                  <a:pt x="10616" y="10220"/>
                </a:cubicBezTo>
                <a:cubicBezTo>
                  <a:pt x="10661" y="10293"/>
                  <a:pt x="10688" y="10409"/>
                  <a:pt x="10691" y="10492"/>
                </a:cubicBezTo>
                <a:cubicBezTo>
                  <a:pt x="10691" y="10525"/>
                  <a:pt x="10691" y="10542"/>
                  <a:pt x="10691" y="10567"/>
                </a:cubicBezTo>
                <a:cubicBezTo>
                  <a:pt x="10726" y="10443"/>
                  <a:pt x="10750" y="10318"/>
                  <a:pt x="10790" y="10195"/>
                </a:cubicBezTo>
                <a:cubicBezTo>
                  <a:pt x="10867" y="9962"/>
                  <a:pt x="10906" y="9714"/>
                  <a:pt x="10939" y="9475"/>
                </a:cubicBezTo>
                <a:cubicBezTo>
                  <a:pt x="10985" y="9203"/>
                  <a:pt x="11011" y="9030"/>
                  <a:pt x="11038" y="8806"/>
                </a:cubicBezTo>
              </a:path>
              <a:path w="5507" h="2581">
                <a:moveTo>
                  <a:pt x="11112" y="8706"/>
                </a:moveTo>
                <a:cubicBezTo>
                  <a:pt x="11140" y="8734"/>
                  <a:pt x="11149" y="8748"/>
                  <a:pt x="11137" y="8781"/>
                </a:cubicBezTo>
                <a:cubicBezTo>
                  <a:pt x="11155" y="8769"/>
                  <a:pt x="11198" y="8700"/>
                  <a:pt x="11212" y="8657"/>
                </a:cubicBezTo>
                <a:cubicBezTo>
                  <a:pt x="11222" y="8628"/>
                  <a:pt x="11271" y="8580"/>
                  <a:pt x="11286" y="8558"/>
                </a:cubicBezTo>
                <a:cubicBezTo>
                  <a:pt x="11327" y="8499"/>
                  <a:pt x="11311" y="8521"/>
                  <a:pt x="11361" y="8483"/>
                </a:cubicBezTo>
                <a:cubicBezTo>
                  <a:pt x="11415" y="8524"/>
                  <a:pt x="11447" y="8547"/>
                  <a:pt x="11460" y="8632"/>
                </a:cubicBezTo>
                <a:cubicBezTo>
                  <a:pt x="11476" y="8736"/>
                  <a:pt x="11465" y="8855"/>
                  <a:pt x="11435" y="8954"/>
                </a:cubicBezTo>
                <a:cubicBezTo>
                  <a:pt x="11405" y="9056"/>
                  <a:pt x="11378" y="9108"/>
                  <a:pt x="11311" y="9153"/>
                </a:cubicBezTo>
                <a:cubicBezTo>
                  <a:pt x="11280" y="9174"/>
                  <a:pt x="11230" y="9200"/>
                  <a:pt x="11187" y="9178"/>
                </a:cubicBezTo>
                <a:cubicBezTo>
                  <a:pt x="11143" y="9156"/>
                  <a:pt x="11116" y="9135"/>
                  <a:pt x="11112" y="9079"/>
                </a:cubicBezTo>
                <a:cubicBezTo>
                  <a:pt x="11109" y="9034"/>
                  <a:pt x="11143" y="8954"/>
                  <a:pt x="11187" y="8930"/>
                </a:cubicBezTo>
                <a:cubicBezTo>
                  <a:pt x="11218" y="8913"/>
                  <a:pt x="11291" y="8925"/>
                  <a:pt x="11311" y="8954"/>
                </a:cubicBezTo>
                <a:cubicBezTo>
                  <a:pt x="11344" y="9001"/>
                  <a:pt x="11375" y="9048"/>
                  <a:pt x="11410" y="9079"/>
                </a:cubicBezTo>
                <a:cubicBezTo>
                  <a:pt x="11463" y="9125"/>
                  <a:pt x="11442" y="9134"/>
                  <a:pt x="11509" y="9153"/>
                </a:cubicBezTo>
              </a:path>
              <a:path w="5507" h="2581">
                <a:moveTo>
                  <a:pt x="11633" y="8706"/>
                </a:moveTo>
                <a:cubicBezTo>
                  <a:pt x="11696" y="8869"/>
                  <a:pt x="11719" y="8895"/>
                  <a:pt x="11832" y="9004"/>
                </a:cubicBezTo>
                <a:cubicBezTo>
                  <a:pt x="11893" y="9063"/>
                  <a:pt x="11974" y="9147"/>
                  <a:pt x="12055" y="9178"/>
                </a:cubicBezTo>
                <a:cubicBezTo>
                  <a:pt x="12063" y="9178"/>
                  <a:pt x="12072" y="9178"/>
                  <a:pt x="12080" y="9178"/>
                </a:cubicBezTo>
              </a:path>
              <a:path w="5507" h="2581">
                <a:moveTo>
                  <a:pt x="11956" y="8706"/>
                </a:moveTo>
                <a:cubicBezTo>
                  <a:pt x="11897" y="8807"/>
                  <a:pt x="11847" y="8905"/>
                  <a:pt x="11782" y="9004"/>
                </a:cubicBezTo>
                <a:cubicBezTo>
                  <a:pt x="11733" y="9078"/>
                  <a:pt x="11666" y="9153"/>
                  <a:pt x="11633" y="9227"/>
                </a:cubicBezTo>
                <a:cubicBezTo>
                  <a:pt x="11625" y="9252"/>
                  <a:pt x="11617" y="9277"/>
                  <a:pt x="11609" y="9302"/>
                </a:cubicBezTo>
              </a:path>
              <a:path w="5507" h="2581">
                <a:moveTo>
                  <a:pt x="12204" y="9922"/>
                </a:moveTo>
                <a:cubicBezTo>
                  <a:pt x="12162" y="9922"/>
                  <a:pt x="12154" y="9922"/>
                  <a:pt x="12129" y="9922"/>
                </a:cubicBezTo>
              </a:path>
              <a:path w="5507" h="2581">
                <a:moveTo>
                  <a:pt x="12626" y="9302"/>
                </a:moveTo>
                <a:cubicBezTo>
                  <a:pt x="12746" y="9165"/>
                  <a:pt x="12734" y="9153"/>
                  <a:pt x="12898" y="9153"/>
                </a:cubicBezTo>
                <a:cubicBezTo>
                  <a:pt x="12975" y="9153"/>
                  <a:pt x="13135" y="9122"/>
                  <a:pt x="13196" y="9178"/>
                </a:cubicBezTo>
                <a:cubicBezTo>
                  <a:pt x="13268" y="9244"/>
                  <a:pt x="13288" y="9384"/>
                  <a:pt x="13295" y="9475"/>
                </a:cubicBezTo>
                <a:cubicBezTo>
                  <a:pt x="13307" y="9646"/>
                  <a:pt x="13276" y="9804"/>
                  <a:pt x="13246" y="9971"/>
                </a:cubicBezTo>
                <a:cubicBezTo>
                  <a:pt x="13217" y="10133"/>
                  <a:pt x="13183" y="10276"/>
                  <a:pt x="13097" y="10418"/>
                </a:cubicBezTo>
                <a:cubicBezTo>
                  <a:pt x="13044" y="10505"/>
                  <a:pt x="13025" y="10624"/>
                  <a:pt x="12923" y="10641"/>
                </a:cubicBezTo>
                <a:cubicBezTo>
                  <a:pt x="12816" y="10659"/>
                  <a:pt x="12797" y="10648"/>
                  <a:pt x="12750" y="10567"/>
                </a:cubicBezTo>
                <a:cubicBezTo>
                  <a:pt x="12698" y="10476"/>
                  <a:pt x="12682" y="10409"/>
                  <a:pt x="12700" y="10294"/>
                </a:cubicBezTo>
                <a:cubicBezTo>
                  <a:pt x="12711" y="10222"/>
                  <a:pt x="12729" y="10199"/>
                  <a:pt x="12799" y="10195"/>
                </a:cubicBezTo>
                <a:cubicBezTo>
                  <a:pt x="12917" y="10188"/>
                  <a:pt x="12947" y="10281"/>
                  <a:pt x="13022" y="10344"/>
                </a:cubicBezTo>
                <a:cubicBezTo>
                  <a:pt x="13104" y="10412"/>
                  <a:pt x="13145" y="10508"/>
                  <a:pt x="13221" y="10592"/>
                </a:cubicBezTo>
                <a:cubicBezTo>
                  <a:pt x="13254" y="10629"/>
                  <a:pt x="13292" y="10716"/>
                  <a:pt x="13345" y="10716"/>
                </a:cubicBezTo>
                <a:cubicBezTo>
                  <a:pt x="13345" y="10708"/>
                  <a:pt x="13345" y="10699"/>
                  <a:pt x="13345" y="10691"/>
                </a:cubicBezTo>
              </a:path>
              <a:path w="5507" h="2581">
                <a:moveTo>
                  <a:pt x="13667" y="8657"/>
                </a:moveTo>
                <a:cubicBezTo>
                  <a:pt x="13658" y="8744"/>
                  <a:pt x="13636" y="8851"/>
                  <a:pt x="13593" y="8930"/>
                </a:cubicBezTo>
                <a:cubicBezTo>
                  <a:pt x="13554" y="9003"/>
                  <a:pt x="13503" y="9086"/>
                  <a:pt x="13519" y="9178"/>
                </a:cubicBezTo>
                <a:cubicBezTo>
                  <a:pt x="13540" y="9299"/>
                  <a:pt x="13621" y="9276"/>
                  <a:pt x="13692" y="9327"/>
                </a:cubicBezTo>
                <a:cubicBezTo>
                  <a:pt x="13740" y="9361"/>
                  <a:pt x="13846" y="9414"/>
                  <a:pt x="13915" y="9376"/>
                </a:cubicBezTo>
                <a:cubicBezTo>
                  <a:pt x="13996" y="9332"/>
                  <a:pt x="14051" y="9267"/>
                  <a:pt x="14064" y="9178"/>
                </a:cubicBezTo>
                <a:cubicBezTo>
                  <a:pt x="14074" y="9104"/>
                  <a:pt x="13948" y="9035"/>
                  <a:pt x="13891" y="9029"/>
                </a:cubicBezTo>
                <a:cubicBezTo>
                  <a:pt x="13813" y="9020"/>
                  <a:pt x="13763" y="9034"/>
                  <a:pt x="13717" y="9103"/>
                </a:cubicBezTo>
                <a:cubicBezTo>
                  <a:pt x="13649" y="9205"/>
                  <a:pt x="13694" y="9235"/>
                  <a:pt x="13717" y="9327"/>
                </a:cubicBezTo>
                <a:cubicBezTo>
                  <a:pt x="13717" y="9343"/>
                  <a:pt x="13717" y="9360"/>
                  <a:pt x="13717" y="9376"/>
                </a:cubicBezTo>
              </a:path>
              <a:path w="5507" h="2581">
                <a:moveTo>
                  <a:pt x="13940" y="9674"/>
                </a:moveTo>
                <a:cubicBezTo>
                  <a:pt x="14073" y="9674"/>
                  <a:pt x="14307" y="9720"/>
                  <a:pt x="14387" y="9624"/>
                </a:cubicBezTo>
              </a:path>
              <a:path w="5507" h="2581">
                <a:moveTo>
                  <a:pt x="14064" y="9847"/>
                </a:moveTo>
                <a:cubicBezTo>
                  <a:pt x="14242" y="9929"/>
                  <a:pt x="14300" y="9971"/>
                  <a:pt x="14486" y="9971"/>
                </a:cubicBezTo>
              </a:path>
              <a:path w="5507" h="2581">
                <a:moveTo>
                  <a:pt x="14883" y="9227"/>
                </a:moveTo>
                <a:cubicBezTo>
                  <a:pt x="14915" y="9188"/>
                  <a:pt x="14978" y="9097"/>
                  <a:pt x="15032" y="9079"/>
                </a:cubicBezTo>
                <a:cubicBezTo>
                  <a:pt x="15076" y="9065"/>
                  <a:pt x="15260" y="9219"/>
                  <a:pt x="15280" y="9252"/>
                </a:cubicBezTo>
                <a:cubicBezTo>
                  <a:pt x="15372" y="9405"/>
                  <a:pt x="15406" y="9657"/>
                  <a:pt x="15404" y="9823"/>
                </a:cubicBezTo>
                <a:cubicBezTo>
                  <a:pt x="15402" y="9987"/>
                  <a:pt x="15371" y="10193"/>
                  <a:pt x="15304" y="10344"/>
                </a:cubicBezTo>
                <a:cubicBezTo>
                  <a:pt x="15263" y="10437"/>
                  <a:pt x="15177" y="10591"/>
                  <a:pt x="15081" y="10641"/>
                </a:cubicBezTo>
                <a:cubicBezTo>
                  <a:pt x="15018" y="10674"/>
                  <a:pt x="14936" y="10637"/>
                  <a:pt x="14908" y="10592"/>
                </a:cubicBezTo>
                <a:cubicBezTo>
                  <a:pt x="14856" y="10507"/>
                  <a:pt x="14858" y="10445"/>
                  <a:pt x="14858" y="10344"/>
                </a:cubicBezTo>
                <a:cubicBezTo>
                  <a:pt x="14858" y="10299"/>
                  <a:pt x="14886" y="10220"/>
                  <a:pt x="14932" y="10195"/>
                </a:cubicBezTo>
                <a:cubicBezTo>
                  <a:pt x="14996" y="10160"/>
                  <a:pt x="15044" y="10235"/>
                  <a:pt x="15081" y="10269"/>
                </a:cubicBezTo>
                <a:cubicBezTo>
                  <a:pt x="15188" y="10367"/>
                  <a:pt x="15248" y="10519"/>
                  <a:pt x="15329" y="10641"/>
                </a:cubicBezTo>
                <a:cubicBezTo>
                  <a:pt x="15388" y="10729"/>
                  <a:pt x="15458" y="10824"/>
                  <a:pt x="15503" y="10914"/>
                </a:cubicBezTo>
                <a:cubicBezTo>
                  <a:pt x="15549" y="11006"/>
                  <a:pt x="15568" y="11024"/>
                  <a:pt x="15602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572080" y="3054240"/>
            <a:ext cx="696960" cy="303480"/>
          </a:xfrm>
          <a:custGeom>
            <a:avLst/>
            <a:gdLst/>
            <a:ahLst/>
            <a:rect l="l" t="t" r="r" b="b"/>
            <a:pathLst>
              <a:path w="1936" h="845">
                <a:moveTo>
                  <a:pt x="15577" y="8706"/>
                </a:moveTo>
                <a:cubicBezTo>
                  <a:pt x="15577" y="8741"/>
                  <a:pt x="15573" y="8759"/>
                  <a:pt x="15553" y="8781"/>
                </a:cubicBezTo>
                <a:cubicBezTo>
                  <a:pt x="15553" y="8727"/>
                  <a:pt x="15558" y="8681"/>
                  <a:pt x="15577" y="8632"/>
                </a:cubicBezTo>
                <a:cubicBezTo>
                  <a:pt x="15590" y="8599"/>
                  <a:pt x="15628" y="8498"/>
                  <a:pt x="15652" y="8483"/>
                </a:cubicBezTo>
                <a:cubicBezTo>
                  <a:pt x="15732" y="8433"/>
                  <a:pt x="15773" y="8532"/>
                  <a:pt x="15801" y="8558"/>
                </a:cubicBezTo>
                <a:cubicBezTo>
                  <a:pt x="15872" y="8623"/>
                  <a:pt x="15857" y="8779"/>
                  <a:pt x="15825" y="8880"/>
                </a:cubicBezTo>
                <a:cubicBezTo>
                  <a:pt x="15793" y="8979"/>
                  <a:pt x="15755" y="9068"/>
                  <a:pt x="15701" y="9153"/>
                </a:cubicBezTo>
                <a:cubicBezTo>
                  <a:pt x="15652" y="9231"/>
                  <a:pt x="15628" y="9229"/>
                  <a:pt x="15553" y="9252"/>
                </a:cubicBezTo>
                <a:cubicBezTo>
                  <a:pt x="15490" y="9271"/>
                  <a:pt x="15471" y="9192"/>
                  <a:pt x="15478" y="9153"/>
                </a:cubicBezTo>
                <a:cubicBezTo>
                  <a:pt x="15492" y="9069"/>
                  <a:pt x="15609" y="8997"/>
                  <a:pt x="15701" y="9029"/>
                </a:cubicBezTo>
                <a:cubicBezTo>
                  <a:pt x="15774" y="9055"/>
                  <a:pt x="15841" y="9126"/>
                  <a:pt x="15900" y="9178"/>
                </a:cubicBezTo>
                <a:cubicBezTo>
                  <a:pt x="15910" y="9187"/>
                  <a:pt x="15990" y="9264"/>
                  <a:pt x="16024" y="9227"/>
                </a:cubicBezTo>
                <a:cubicBezTo>
                  <a:pt x="16045" y="9204"/>
                  <a:pt x="16061" y="9132"/>
                  <a:pt x="16073" y="9103"/>
                </a:cubicBezTo>
              </a:path>
              <a:path w="1936" h="845">
                <a:moveTo>
                  <a:pt x="16098" y="8657"/>
                </a:moveTo>
                <a:cubicBezTo>
                  <a:pt x="16176" y="8832"/>
                  <a:pt x="16249" y="8930"/>
                  <a:pt x="16371" y="9079"/>
                </a:cubicBezTo>
                <a:cubicBezTo>
                  <a:pt x="16446" y="9170"/>
                  <a:pt x="16565" y="9208"/>
                  <a:pt x="16669" y="9227"/>
                </a:cubicBezTo>
              </a:path>
              <a:path w="1936" h="845">
                <a:moveTo>
                  <a:pt x="16421" y="8706"/>
                </a:moveTo>
                <a:cubicBezTo>
                  <a:pt x="16326" y="8810"/>
                  <a:pt x="16269" y="8909"/>
                  <a:pt x="16197" y="9029"/>
                </a:cubicBezTo>
                <a:cubicBezTo>
                  <a:pt x="16144" y="9118"/>
                  <a:pt x="16103" y="9217"/>
                  <a:pt x="16049" y="9302"/>
                </a:cubicBezTo>
                <a:cubicBezTo>
                  <a:pt x="16041" y="9310"/>
                  <a:pt x="16032" y="9319"/>
                  <a:pt x="16024" y="9327"/>
                </a:cubicBezTo>
              </a:path>
              <a:path w="1936" h="845">
                <a:moveTo>
                  <a:pt x="16718" y="8632"/>
                </a:moveTo>
                <a:cubicBezTo>
                  <a:pt x="16729" y="8763"/>
                  <a:pt x="16719" y="8973"/>
                  <a:pt x="16768" y="9103"/>
                </a:cubicBezTo>
                <a:cubicBezTo>
                  <a:pt x="16786" y="9149"/>
                  <a:pt x="16793" y="9322"/>
                  <a:pt x="16793" y="9153"/>
                </a:cubicBezTo>
              </a:path>
              <a:path w="1936" h="845">
                <a:moveTo>
                  <a:pt x="16570" y="8930"/>
                </a:moveTo>
                <a:cubicBezTo>
                  <a:pt x="16686" y="8930"/>
                  <a:pt x="16801" y="8930"/>
                  <a:pt x="16917" y="8930"/>
                </a:cubicBezTo>
              </a:path>
              <a:path w="1936" h="845">
                <a:moveTo>
                  <a:pt x="17090" y="8558"/>
                </a:moveTo>
                <a:cubicBezTo>
                  <a:pt x="17055" y="8674"/>
                  <a:pt x="16984" y="8822"/>
                  <a:pt x="17016" y="8954"/>
                </a:cubicBezTo>
                <a:cubicBezTo>
                  <a:pt x="17042" y="9062"/>
                  <a:pt x="17129" y="9103"/>
                  <a:pt x="17190" y="9178"/>
                </a:cubicBezTo>
                <a:cubicBezTo>
                  <a:pt x="17210" y="9203"/>
                  <a:pt x="17290" y="9275"/>
                  <a:pt x="17338" y="9227"/>
                </a:cubicBezTo>
                <a:cubicBezTo>
                  <a:pt x="17396" y="9170"/>
                  <a:pt x="17429" y="9085"/>
                  <a:pt x="17413" y="9004"/>
                </a:cubicBezTo>
                <a:cubicBezTo>
                  <a:pt x="17393" y="8905"/>
                  <a:pt x="17365" y="8930"/>
                  <a:pt x="17289" y="8930"/>
                </a:cubicBezTo>
                <a:cubicBezTo>
                  <a:pt x="17236" y="8930"/>
                  <a:pt x="17176" y="9018"/>
                  <a:pt x="17165" y="9079"/>
                </a:cubicBezTo>
                <a:cubicBezTo>
                  <a:pt x="17153" y="9147"/>
                  <a:pt x="17165" y="9233"/>
                  <a:pt x="17165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0:34:21Z</dcterms:created>
  <dc:creator>jnewman</dc:creator>
  <dc:description/>
  <dc:language>en-US</dc:language>
  <cp:lastModifiedBy>abeason</cp:lastModifiedBy>
  <dcterms:modified xsi:type="dcterms:W3CDTF">2009-06-01T16:30:47Z</dcterms:modified>
  <cp:revision>15</cp:revision>
  <dc:subject/>
  <dc:title>Lesson 3.1</dc:title>
</cp:coreProperties>
</file>